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0E4B-17F2-4550-9842-5BA8A4E2D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click menus on waypoints for adding new plant patch and plant patch wiz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to 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ht prototype some  things in V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ot is for 3d digitiz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Hz per sens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foo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015 inch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B with a proprietary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utoyo cali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00 millimeter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B interface supports HID driver, just a key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and Biomas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n C#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 Prototyp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rp server as windows servi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mport/Ex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reeView of 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DataGrid Compon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Waypoint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PlantPatch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Import Wizard Prototype Wizard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Save/Resto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4/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2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resen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Delivera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ing and Biomas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rdware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s Researc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1/3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 4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n C#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lhemus Pen Prototyp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drp server as windows servi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Model Import/Expor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reeView of Mode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DataGrid Compon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2/2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Waypoint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PlantPatch Rend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 Import Wizard Prototype Wizard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13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Save/Resto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3/2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3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1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4/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0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typing 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17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 4/2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Present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2/14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Presenta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n 4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 Deliverabl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e 5/2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37FA-C1A1-4818-A6A9-FA3B820C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1AD-B826-49E5-B92D-444D7BC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339-70E4-4CBF-8CCD-B3F6753A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753-E30D-4085-A053-564FC792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02A-6D65-488F-9A4B-4DA6A59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684-216E-4FD7-A543-77C8075E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227-A012-4DE5-9F25-E58733E8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7DB-6DC3-48DE-B0E2-3F9210E8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8EC-5527-4811-8AD1-88E918A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7A8-AC8B-487B-96BA-14D78FD6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DA6-754E-4E35-A5E8-9D607EC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C44-57CC-47D8-9899-0FB9C808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A047-B247-4A30-9BF9-07FC5562A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hyperlink" Target="http://mhs.jimweller.net/" TargetMode="External"/><Relationship Id="rId6" Type="http://schemas.openxmlformats.org/officeDocument/2006/relationships/hyperlink" Target="http://mhs.jimweller.net/" TargetMode="External"/><Relationship Id="rId7" Type="http://schemas.openxmlformats.org/officeDocument/2006/relationships/hyperlink" Target="http://mhs.jimweller.net/" TargetMode="External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hs.jimweller.ne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800600" y="5105520"/>
          <a:ext cx="304812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5105520"/>
                    <a:ext cx="304812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38080" y="762120"/>
          <a:ext cx="1768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762120"/>
                    <a:ext cx="1768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962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and Desig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mhs.jimweller.net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5867280" y="533520"/>
            <a:ext cx="2133720" cy="1670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447920" y="5195880"/>
            <a:ext cx="2216160" cy="159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429000" y="685800"/>
          <a:ext cx="1625760" cy="1625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29000" y="685800"/>
                    <a:ext cx="162576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74320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Moose Habitat Surveyor (M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software to direct and record biologists’ field tr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el a framework to CYG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w realtime-ish 3d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rol the model data with USB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del View Controller (M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MVC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1219320"/>
          <a:ext cx="693396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9339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eld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çade interfac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way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4191120"/>
          <a:ext cx="861048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91120"/>
                    <a:ext cx="861048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191120" y="1600200"/>
          <a:ext cx="41907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00200"/>
                    <a:ext cx="41907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57200" y="1600200"/>
            <a:ext cx="3657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y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 on GPS c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m rad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PlantP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29528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tP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stance of a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iameters; longest and perpend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CY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14400" y="3235320"/>
          <a:ext cx="7391520" cy="36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35320"/>
                    <a:ext cx="739152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47600" y="3740040"/>
            <a:ext cx="1508040" cy="1971720"/>
          </a:xfrm>
          <a:custGeom>
            <a:avLst/>
            <a:gdLst/>
            <a:ahLst/>
            <a:rect l="l" t="t" r="r" b="b"/>
            <a:pathLst>
              <a:path w="4186" h="5475">
                <a:moveTo>
                  <a:pt x="1935" y="10885"/>
                </a:moveTo>
                <a:cubicBezTo>
                  <a:pt x="1934" y="10885"/>
                  <a:pt x="1910" y="10867"/>
                  <a:pt x="1898" y="10867"/>
                </a:cubicBezTo>
                <a:cubicBezTo>
                  <a:pt x="1816" y="10869"/>
                  <a:pt x="1773" y="10877"/>
                  <a:pt x="1683" y="10911"/>
                </a:cubicBezTo>
                <a:cubicBezTo>
                  <a:pt x="1515" y="10975"/>
                  <a:pt x="1403" y="11077"/>
                  <a:pt x="1279" y="11200"/>
                </a:cubicBezTo>
                <a:cubicBezTo>
                  <a:pt x="1141" y="11337"/>
                  <a:pt x="1025" y="11458"/>
                  <a:pt x="921" y="11628"/>
                </a:cubicBezTo>
                <a:cubicBezTo>
                  <a:pt x="703" y="11984"/>
                  <a:pt x="566" y="12345"/>
                  <a:pt x="491" y="12754"/>
                </a:cubicBezTo>
                <a:cubicBezTo>
                  <a:pt x="377" y="13380"/>
                  <a:pt x="432" y="13944"/>
                  <a:pt x="580" y="14558"/>
                </a:cubicBezTo>
                <a:cubicBezTo>
                  <a:pt x="644" y="14824"/>
                  <a:pt x="742" y="15024"/>
                  <a:pt x="932" y="15225"/>
                </a:cubicBezTo>
                <a:cubicBezTo>
                  <a:pt x="1039" y="15338"/>
                  <a:pt x="1167" y="15467"/>
                  <a:pt x="1294" y="15558"/>
                </a:cubicBezTo>
                <a:cubicBezTo>
                  <a:pt x="1688" y="15841"/>
                  <a:pt x="2327" y="15915"/>
                  <a:pt x="2799" y="15855"/>
                </a:cubicBezTo>
                <a:cubicBezTo>
                  <a:pt x="3075" y="15820"/>
                  <a:pt x="3375" y="15677"/>
                  <a:pt x="3612" y="15537"/>
                </a:cubicBezTo>
                <a:cubicBezTo>
                  <a:pt x="3755" y="15453"/>
                  <a:pt x="3872" y="15343"/>
                  <a:pt x="3996" y="15235"/>
                </a:cubicBezTo>
                <a:cubicBezTo>
                  <a:pt x="4065" y="15175"/>
                  <a:pt x="4117" y="15132"/>
                  <a:pt x="4169" y="15054"/>
                </a:cubicBezTo>
                <a:cubicBezTo>
                  <a:pt x="4251" y="14930"/>
                  <a:pt x="4297" y="14788"/>
                  <a:pt x="4355" y="14652"/>
                </a:cubicBezTo>
                <a:cubicBezTo>
                  <a:pt x="4443" y="14446"/>
                  <a:pt x="4502" y="14266"/>
                  <a:pt x="4529" y="14043"/>
                </a:cubicBezTo>
                <a:cubicBezTo>
                  <a:pt x="4555" y="13821"/>
                  <a:pt x="4589" y="13603"/>
                  <a:pt x="4589" y="13379"/>
                </a:cubicBezTo>
                <a:cubicBezTo>
                  <a:pt x="4588" y="13130"/>
                  <a:pt x="4567" y="12890"/>
                  <a:pt x="4518" y="12647"/>
                </a:cubicBezTo>
                <a:cubicBezTo>
                  <a:pt x="4474" y="12429"/>
                  <a:pt x="4399" y="12229"/>
                  <a:pt x="4319" y="12022"/>
                </a:cubicBezTo>
                <a:cubicBezTo>
                  <a:pt x="4239" y="11815"/>
                  <a:pt x="4139" y="11631"/>
                  <a:pt x="4019" y="11444"/>
                </a:cubicBezTo>
                <a:cubicBezTo>
                  <a:pt x="3928" y="11302"/>
                  <a:pt x="3829" y="11160"/>
                  <a:pt x="3725" y="11029"/>
                </a:cubicBezTo>
                <a:cubicBezTo>
                  <a:pt x="3620" y="10897"/>
                  <a:pt x="3516" y="10775"/>
                  <a:pt x="3384" y="10670"/>
                </a:cubicBezTo>
                <a:cubicBezTo>
                  <a:pt x="3299" y="10603"/>
                  <a:pt x="3211" y="10532"/>
                  <a:pt x="3111" y="10489"/>
                </a:cubicBezTo>
                <a:cubicBezTo>
                  <a:pt x="2909" y="10403"/>
                  <a:pt x="2680" y="10388"/>
                  <a:pt x="2465" y="10407"/>
                </a:cubicBezTo>
                <a:cubicBezTo>
                  <a:pt x="2158" y="10434"/>
                  <a:pt x="1754" y="10543"/>
                  <a:pt x="1507" y="10738"/>
                </a:cubicBezTo>
                <a:cubicBezTo>
                  <a:pt x="1313" y="10891"/>
                  <a:pt x="1148" y="11148"/>
                  <a:pt x="1045" y="11365"/>
                </a:cubicBezTo>
                <a:cubicBezTo>
                  <a:pt x="1041" y="11378"/>
                  <a:pt x="1038" y="11392"/>
                  <a:pt x="1034" y="11405"/>
                </a:cubicBezTo>
              </a:path>
              <a:path w="4186" h="5475">
                <a:moveTo>
                  <a:pt x="2468" y="10460"/>
                </a:moveTo>
                <a:cubicBezTo>
                  <a:pt x="2464" y="10456"/>
                  <a:pt x="2461" y="10453"/>
                  <a:pt x="2460" y="10449"/>
                </a:cubicBezTo>
                <a:cubicBezTo>
                  <a:pt x="2459" y="10444"/>
                  <a:pt x="2458" y="10438"/>
                  <a:pt x="2457" y="10433"/>
                </a:cubicBezTo>
                <a:cubicBezTo>
                  <a:pt x="2456" y="10427"/>
                  <a:pt x="2460" y="10422"/>
                  <a:pt x="2460" y="10415"/>
                </a:cubicBezTo>
                <a:cubicBezTo>
                  <a:pt x="2468" y="10418"/>
                  <a:pt x="2462" y="10415"/>
                  <a:pt x="2465" y="10423"/>
                </a:cubicBezTo>
                <a:cubicBezTo>
                  <a:pt x="2469" y="10433"/>
                  <a:pt x="2467" y="10437"/>
                  <a:pt x="2465" y="10447"/>
                </a:cubicBezTo>
                <a:cubicBezTo>
                  <a:pt x="2464" y="10456"/>
                  <a:pt x="2462" y="10466"/>
                  <a:pt x="2455" y="10470"/>
                </a:cubicBezTo>
                <a:cubicBezTo>
                  <a:pt x="2447" y="10475"/>
                  <a:pt x="2442" y="10473"/>
                  <a:pt x="2434" y="10470"/>
                </a:cubicBezTo>
                <a:cubicBezTo>
                  <a:pt x="2425" y="10466"/>
                  <a:pt x="2419" y="10457"/>
                  <a:pt x="2413" y="10449"/>
                </a:cubicBezTo>
                <a:cubicBezTo>
                  <a:pt x="2406" y="10438"/>
                  <a:pt x="2403" y="10425"/>
                  <a:pt x="2402" y="10412"/>
                </a:cubicBezTo>
                <a:cubicBezTo>
                  <a:pt x="2401" y="10401"/>
                  <a:pt x="2409" y="10397"/>
                  <a:pt x="2418" y="10391"/>
                </a:cubicBezTo>
                <a:cubicBezTo>
                  <a:pt x="2432" y="10392"/>
                  <a:pt x="2433" y="10398"/>
                  <a:pt x="2444" y="10405"/>
                </a:cubicBezTo>
                <a:cubicBezTo>
                  <a:pt x="2458" y="10414"/>
                  <a:pt x="2463" y="10422"/>
                  <a:pt x="2468" y="10439"/>
                </a:cubicBezTo>
                <a:cubicBezTo>
                  <a:pt x="2472" y="10453"/>
                  <a:pt x="2469" y="10470"/>
                  <a:pt x="2463" y="10483"/>
                </a:cubicBezTo>
                <a:cubicBezTo>
                  <a:pt x="2456" y="10497"/>
                  <a:pt x="2448" y="10509"/>
                  <a:pt x="2434" y="10517"/>
                </a:cubicBezTo>
                <a:cubicBezTo>
                  <a:pt x="2420" y="10525"/>
                  <a:pt x="2412" y="10517"/>
                  <a:pt x="2402" y="10507"/>
                </a:cubicBezTo>
                <a:cubicBezTo>
                  <a:pt x="2387" y="10492"/>
                  <a:pt x="2383" y="10478"/>
                  <a:pt x="2381" y="10457"/>
                </a:cubicBezTo>
                <a:cubicBezTo>
                  <a:pt x="2380" y="10441"/>
                  <a:pt x="2382" y="10424"/>
                  <a:pt x="2394" y="10415"/>
                </a:cubicBezTo>
                <a:cubicBezTo>
                  <a:pt x="2407" y="10405"/>
                  <a:pt x="2421" y="10410"/>
                  <a:pt x="2434" y="10415"/>
                </a:cubicBezTo>
                <a:cubicBezTo>
                  <a:pt x="2455" y="10423"/>
                  <a:pt x="2458" y="10435"/>
                  <a:pt x="2470" y="10452"/>
                </a:cubicBezTo>
                <a:cubicBezTo>
                  <a:pt x="2478" y="10464"/>
                  <a:pt x="2486" y="10478"/>
                  <a:pt x="2484" y="10494"/>
                </a:cubicBezTo>
                <a:cubicBezTo>
                  <a:pt x="2482" y="10504"/>
                  <a:pt x="2476" y="10517"/>
                  <a:pt x="2465" y="10520"/>
                </a:cubicBezTo>
                <a:cubicBezTo>
                  <a:pt x="2449" y="10525"/>
                  <a:pt x="2438" y="10514"/>
                  <a:pt x="2426" y="10507"/>
                </a:cubicBezTo>
                <a:cubicBezTo>
                  <a:pt x="2411" y="10499"/>
                  <a:pt x="2397" y="10492"/>
                  <a:pt x="2386" y="10478"/>
                </a:cubicBezTo>
                <a:cubicBezTo>
                  <a:pt x="2380" y="10470"/>
                  <a:pt x="2378" y="10456"/>
                  <a:pt x="2384" y="10447"/>
                </a:cubicBezTo>
                <a:cubicBezTo>
                  <a:pt x="2391" y="10437"/>
                  <a:pt x="2402" y="10427"/>
                  <a:pt x="2413" y="10423"/>
                </a:cubicBezTo>
                <a:cubicBezTo>
                  <a:pt x="2424" y="10419"/>
                  <a:pt x="2432" y="10418"/>
                  <a:pt x="2439" y="10428"/>
                </a:cubicBezTo>
                <a:cubicBezTo>
                  <a:pt x="2448" y="10440"/>
                  <a:pt x="2447" y="10453"/>
                  <a:pt x="2447" y="10468"/>
                </a:cubicBezTo>
                <a:cubicBezTo>
                  <a:pt x="2447" y="10474"/>
                  <a:pt x="2442" y="10485"/>
                  <a:pt x="2444" y="10470"/>
                </a:cubicBezTo>
                <a:cubicBezTo>
                  <a:pt x="2445" y="10468"/>
                  <a:pt x="2446" y="10467"/>
                  <a:pt x="2447" y="10465"/>
                </a:cubicBezTo>
              </a:path>
              <a:path w="4186" h="5475">
                <a:moveTo>
                  <a:pt x="2402" y="10528"/>
                </a:moveTo>
                <a:cubicBezTo>
                  <a:pt x="2428" y="10803"/>
                  <a:pt x="2464" y="11077"/>
                  <a:pt x="2494" y="11352"/>
                </a:cubicBezTo>
                <a:cubicBezTo>
                  <a:pt x="2516" y="11559"/>
                  <a:pt x="2549" y="11763"/>
                  <a:pt x="2575" y="11969"/>
                </a:cubicBezTo>
                <a:cubicBezTo>
                  <a:pt x="2608" y="12230"/>
                  <a:pt x="2659" y="12495"/>
                  <a:pt x="2675" y="12757"/>
                </a:cubicBezTo>
                <a:cubicBezTo>
                  <a:pt x="2687" y="12956"/>
                  <a:pt x="2689" y="13148"/>
                  <a:pt x="2717" y="13345"/>
                </a:cubicBezTo>
                <a:cubicBezTo>
                  <a:pt x="2757" y="13620"/>
                  <a:pt x="2743" y="13896"/>
                  <a:pt x="2767" y="14172"/>
                </a:cubicBezTo>
                <a:cubicBezTo>
                  <a:pt x="2800" y="14541"/>
                  <a:pt x="2856" y="14906"/>
                  <a:pt x="2885" y="15275"/>
                </a:cubicBezTo>
                <a:cubicBezTo>
                  <a:pt x="2893" y="15379"/>
                  <a:pt x="2903" y="15482"/>
                  <a:pt x="2927" y="15584"/>
                </a:cubicBezTo>
                <a:cubicBezTo>
                  <a:pt x="2947" y="15671"/>
                  <a:pt x="2971" y="15765"/>
                  <a:pt x="2988" y="15847"/>
                </a:cubicBezTo>
              </a:path>
              <a:path w="4186" h="5475">
                <a:moveTo>
                  <a:pt x="488" y="13618"/>
                </a:moveTo>
                <a:cubicBezTo>
                  <a:pt x="606" y="13598"/>
                  <a:pt x="726" y="13584"/>
                  <a:pt x="840" y="13560"/>
                </a:cubicBezTo>
                <a:cubicBezTo>
                  <a:pt x="958" y="13535"/>
                  <a:pt x="1073" y="13492"/>
                  <a:pt x="1192" y="13474"/>
                </a:cubicBezTo>
                <a:cubicBezTo>
                  <a:pt x="1244" y="13466"/>
                  <a:pt x="1295" y="13468"/>
                  <a:pt x="1347" y="13463"/>
                </a:cubicBezTo>
                <a:cubicBezTo>
                  <a:pt x="1449" y="13454"/>
                  <a:pt x="1545" y="13441"/>
                  <a:pt x="1643" y="13411"/>
                </a:cubicBezTo>
                <a:cubicBezTo>
                  <a:pt x="1755" y="13377"/>
                  <a:pt x="1853" y="13339"/>
                  <a:pt x="1969" y="13329"/>
                </a:cubicBezTo>
                <a:cubicBezTo>
                  <a:pt x="2076" y="13319"/>
                  <a:pt x="2180" y="13312"/>
                  <a:pt x="2287" y="13295"/>
                </a:cubicBezTo>
                <a:cubicBezTo>
                  <a:pt x="2411" y="13275"/>
                  <a:pt x="2530" y="13249"/>
                  <a:pt x="2652" y="13219"/>
                </a:cubicBezTo>
                <a:cubicBezTo>
                  <a:pt x="2796" y="13184"/>
                  <a:pt x="2941" y="13148"/>
                  <a:pt x="3085" y="13117"/>
                </a:cubicBezTo>
                <a:cubicBezTo>
                  <a:pt x="3142" y="13105"/>
                  <a:pt x="3198" y="13093"/>
                  <a:pt x="3255" y="13082"/>
                </a:cubicBezTo>
                <a:cubicBezTo>
                  <a:pt x="3392" y="13056"/>
                  <a:pt x="3525" y="13037"/>
                  <a:pt x="3660" y="13004"/>
                </a:cubicBezTo>
                <a:cubicBezTo>
                  <a:pt x="3714" y="12991"/>
                  <a:pt x="3767" y="12978"/>
                  <a:pt x="3822" y="12967"/>
                </a:cubicBezTo>
                <a:cubicBezTo>
                  <a:pt x="3956" y="12939"/>
                  <a:pt x="4093" y="12933"/>
                  <a:pt x="4227" y="12901"/>
                </a:cubicBezTo>
                <a:cubicBezTo>
                  <a:pt x="4301" y="12883"/>
                  <a:pt x="4374" y="12858"/>
                  <a:pt x="4447" y="12838"/>
                </a:cubicBezTo>
                <a:cubicBezTo>
                  <a:pt x="4482" y="12829"/>
                  <a:pt x="4522" y="12819"/>
                  <a:pt x="4550" y="12809"/>
                </a:cubicBezTo>
                <a:cubicBezTo>
                  <a:pt x="4567" y="12803"/>
                  <a:pt x="4578" y="12818"/>
                  <a:pt x="4594" y="12809"/>
                </a:cubicBezTo>
                <a:cubicBezTo>
                  <a:pt x="4599" y="12806"/>
                  <a:pt x="4586" y="12793"/>
                  <a:pt x="4592" y="12791"/>
                </a:cubicBezTo>
              </a:path>
              <a:path w="4186" h="5475">
                <a:moveTo>
                  <a:pt x="2342" y="10496"/>
                </a:moveTo>
                <a:cubicBezTo>
                  <a:pt x="2340" y="10502"/>
                  <a:pt x="2336" y="10504"/>
                  <a:pt x="2334" y="10510"/>
                </a:cubicBezTo>
                <a:cubicBezTo>
                  <a:pt x="2312" y="10573"/>
                  <a:pt x="2297" y="10632"/>
                  <a:pt x="2276" y="10696"/>
                </a:cubicBezTo>
                <a:cubicBezTo>
                  <a:pt x="2214" y="10883"/>
                  <a:pt x="2127" y="11059"/>
                  <a:pt x="2056" y="11242"/>
                </a:cubicBezTo>
                <a:cubicBezTo>
                  <a:pt x="2037" y="11292"/>
                  <a:pt x="2018" y="11342"/>
                  <a:pt x="2000" y="11392"/>
                </a:cubicBezTo>
                <a:cubicBezTo>
                  <a:pt x="1929" y="11587"/>
                  <a:pt x="1864" y="11784"/>
                  <a:pt x="1801" y="11982"/>
                </a:cubicBezTo>
                <a:cubicBezTo>
                  <a:pt x="1772" y="12074"/>
                  <a:pt x="1737" y="12166"/>
                  <a:pt x="1709" y="12258"/>
                </a:cubicBezTo>
                <a:cubicBezTo>
                  <a:pt x="1681" y="12351"/>
                  <a:pt x="1653" y="12443"/>
                  <a:pt x="1625" y="12536"/>
                </a:cubicBezTo>
                <a:cubicBezTo>
                  <a:pt x="1600" y="12621"/>
                  <a:pt x="1578" y="12707"/>
                  <a:pt x="1541" y="12788"/>
                </a:cubicBezTo>
                <a:cubicBezTo>
                  <a:pt x="1522" y="12830"/>
                  <a:pt x="1497" y="12871"/>
                  <a:pt x="1478" y="12914"/>
                </a:cubicBezTo>
                <a:cubicBezTo>
                  <a:pt x="1458" y="12959"/>
                  <a:pt x="1439" y="13003"/>
                  <a:pt x="1420" y="13048"/>
                </a:cubicBezTo>
                <a:cubicBezTo>
                  <a:pt x="1392" y="13115"/>
                  <a:pt x="1374" y="13179"/>
                  <a:pt x="1357" y="13248"/>
                </a:cubicBezTo>
                <a:cubicBezTo>
                  <a:pt x="1339" y="13319"/>
                  <a:pt x="1324" y="13391"/>
                  <a:pt x="1307" y="13463"/>
                </a:cubicBezTo>
                <a:cubicBezTo>
                  <a:pt x="1296" y="13509"/>
                  <a:pt x="1280" y="13553"/>
                  <a:pt x="1268" y="13597"/>
                </a:cubicBezTo>
                <a:cubicBezTo>
                  <a:pt x="1249" y="13670"/>
                  <a:pt x="1236" y="13744"/>
                  <a:pt x="1210" y="13815"/>
                </a:cubicBezTo>
                <a:cubicBezTo>
                  <a:pt x="1162" y="13946"/>
                  <a:pt x="1095" y="14072"/>
                  <a:pt x="1066" y="14201"/>
                </a:cubicBezTo>
              </a:path>
              <a:path w="4186" h="5475">
                <a:moveTo>
                  <a:pt x="979" y="14119"/>
                </a:moveTo>
                <a:cubicBezTo>
                  <a:pt x="916" y="14154"/>
                  <a:pt x="1065" y="14177"/>
                  <a:pt x="956" y="14214"/>
                </a:cubicBezTo>
                <a:cubicBezTo>
                  <a:pt x="856" y="14248"/>
                  <a:pt x="901" y="14119"/>
                  <a:pt x="940" y="14093"/>
                </a:cubicBezTo>
                <a:cubicBezTo>
                  <a:pt x="985" y="14182"/>
                  <a:pt x="928" y="14220"/>
                  <a:pt x="935" y="14148"/>
                </a:cubicBezTo>
                <a:cubicBezTo>
                  <a:pt x="938" y="14118"/>
                  <a:pt x="979" y="14126"/>
                  <a:pt x="995" y="14133"/>
                </a:cubicBezTo>
                <a:cubicBezTo>
                  <a:pt x="1030" y="14149"/>
                  <a:pt x="1038" y="14177"/>
                  <a:pt x="1050" y="14211"/>
                </a:cubicBezTo>
                <a:cubicBezTo>
                  <a:pt x="1053" y="14231"/>
                  <a:pt x="1068" y="14324"/>
                  <a:pt x="1003" y="14295"/>
                </a:cubicBezTo>
                <a:cubicBezTo>
                  <a:pt x="961" y="14276"/>
                  <a:pt x="962" y="14192"/>
                  <a:pt x="977" y="14156"/>
                </a:cubicBezTo>
                <a:cubicBezTo>
                  <a:pt x="989" y="14126"/>
                  <a:pt x="1013" y="14128"/>
                  <a:pt x="1034" y="14146"/>
                </a:cubicBezTo>
                <a:cubicBezTo>
                  <a:pt x="1039" y="14151"/>
                  <a:pt x="1043" y="14156"/>
                  <a:pt x="1048" y="14161"/>
                </a:cubicBezTo>
                <a:cubicBezTo>
                  <a:pt x="1056" y="14188"/>
                  <a:pt x="1062" y="14212"/>
                  <a:pt x="1058" y="14240"/>
                </a:cubicBezTo>
                <a:cubicBezTo>
                  <a:pt x="1044" y="14339"/>
                  <a:pt x="976" y="14284"/>
                  <a:pt x="953" y="14227"/>
                </a:cubicBezTo>
                <a:cubicBezTo>
                  <a:pt x="939" y="14192"/>
                  <a:pt x="938" y="14098"/>
                  <a:pt x="998" y="14138"/>
                </a:cubicBezTo>
                <a:cubicBezTo>
                  <a:pt x="1032" y="14161"/>
                  <a:pt x="1054" y="14206"/>
                  <a:pt x="1069" y="14243"/>
                </a:cubicBezTo>
                <a:cubicBezTo>
                  <a:pt x="1081" y="14272"/>
                  <a:pt x="1081" y="14305"/>
                  <a:pt x="1071" y="14335"/>
                </a:cubicBezTo>
                <a:cubicBezTo>
                  <a:pt x="1040" y="14428"/>
                  <a:pt x="975" y="14279"/>
                  <a:pt x="969" y="14261"/>
                </a:cubicBezTo>
                <a:cubicBezTo>
                  <a:pt x="959" y="14229"/>
                  <a:pt x="964" y="14179"/>
                  <a:pt x="995" y="14159"/>
                </a:cubicBezTo>
                <a:cubicBezTo>
                  <a:pt x="1020" y="14143"/>
                  <a:pt x="1036" y="14157"/>
                  <a:pt x="1058" y="14167"/>
                </a:cubicBezTo>
                <a:cubicBezTo>
                  <a:pt x="1081" y="14187"/>
                  <a:pt x="1092" y="14200"/>
                  <a:pt x="1095" y="14232"/>
                </a:cubicBezTo>
                <a:cubicBezTo>
                  <a:pt x="1095" y="14248"/>
                  <a:pt x="1095" y="14254"/>
                  <a:pt x="1092" y="14264"/>
                </a:cubicBezTo>
                <a:cubicBezTo>
                  <a:pt x="1067" y="14298"/>
                  <a:pt x="1034" y="14324"/>
                  <a:pt x="987" y="14309"/>
                </a:cubicBezTo>
                <a:cubicBezTo>
                  <a:pt x="915" y="14287"/>
                  <a:pt x="893" y="14203"/>
                  <a:pt x="916" y="14138"/>
                </a:cubicBezTo>
                <a:cubicBezTo>
                  <a:pt x="932" y="14094"/>
                  <a:pt x="994" y="14069"/>
                  <a:pt x="1037" y="14077"/>
                </a:cubicBezTo>
                <a:cubicBezTo>
                  <a:pt x="1083" y="14086"/>
                  <a:pt x="1123" y="14115"/>
                  <a:pt x="1145" y="14156"/>
                </a:cubicBezTo>
                <a:cubicBezTo>
                  <a:pt x="1161" y="14185"/>
                  <a:pt x="1167" y="14221"/>
                  <a:pt x="1168" y="14253"/>
                </a:cubicBezTo>
                <a:cubicBezTo>
                  <a:pt x="1168" y="14260"/>
                  <a:pt x="1168" y="14267"/>
                  <a:pt x="1168" y="14274"/>
                </a:cubicBezTo>
                <a:cubicBezTo>
                  <a:pt x="1155" y="14298"/>
                  <a:pt x="1144" y="14322"/>
                  <a:pt x="1113" y="14324"/>
                </a:cubicBezTo>
                <a:cubicBezTo>
                  <a:pt x="1030" y="14330"/>
                  <a:pt x="974" y="14266"/>
                  <a:pt x="948" y="14190"/>
                </a:cubicBezTo>
                <a:cubicBezTo>
                  <a:pt x="932" y="14143"/>
                  <a:pt x="939" y="14128"/>
                  <a:pt x="961" y="14093"/>
                </a:cubicBezTo>
                <a:cubicBezTo>
                  <a:pt x="998" y="14090"/>
                  <a:pt x="1033" y="14097"/>
                  <a:pt x="1061" y="14127"/>
                </a:cubicBezTo>
                <a:cubicBezTo>
                  <a:pt x="1081" y="14149"/>
                  <a:pt x="1101" y="14181"/>
                  <a:pt x="1100" y="14211"/>
                </a:cubicBezTo>
                <a:cubicBezTo>
                  <a:pt x="1099" y="14232"/>
                  <a:pt x="1092" y="14263"/>
                  <a:pt x="1071" y="14274"/>
                </a:cubicBezTo>
                <a:cubicBezTo>
                  <a:pt x="982" y="14322"/>
                  <a:pt x="959" y="14259"/>
                  <a:pt x="937" y="14185"/>
                </a:cubicBezTo>
                <a:cubicBezTo>
                  <a:pt x="940" y="14149"/>
                  <a:pt x="952" y="14121"/>
                  <a:pt x="998" y="14125"/>
                </a:cubicBezTo>
                <a:cubicBezTo>
                  <a:pt x="1027" y="14133"/>
                  <a:pt x="1038" y="14136"/>
                  <a:pt x="1053" y="14151"/>
                </a:cubicBezTo>
                <a:cubicBezTo>
                  <a:pt x="1076" y="14184"/>
                  <a:pt x="1097" y="14211"/>
                  <a:pt x="1097" y="14253"/>
                </a:cubicBezTo>
                <a:cubicBezTo>
                  <a:pt x="1097" y="14306"/>
                  <a:pt x="1049" y="14361"/>
                  <a:pt x="990" y="14337"/>
                </a:cubicBezTo>
                <a:cubicBezTo>
                  <a:pt x="976" y="14323"/>
                  <a:pt x="962" y="14309"/>
                  <a:pt x="948" y="14295"/>
                </a:cubicBezTo>
              </a:path>
              <a:path w="4186" h="5475">
                <a:moveTo>
                  <a:pt x="932" y="14064"/>
                </a:moveTo>
                <a:cubicBezTo>
                  <a:pt x="865" y="14088"/>
                  <a:pt x="822" y="14120"/>
                  <a:pt x="816" y="14201"/>
                </a:cubicBezTo>
                <a:cubicBezTo>
                  <a:pt x="810" y="14270"/>
                  <a:pt x="850" y="14344"/>
                  <a:pt x="914" y="14372"/>
                </a:cubicBezTo>
                <a:cubicBezTo>
                  <a:pt x="940" y="14383"/>
                  <a:pt x="976" y="14381"/>
                  <a:pt x="1003" y="14379"/>
                </a:cubicBezTo>
                <a:cubicBezTo>
                  <a:pt x="1021" y="14377"/>
                  <a:pt x="1039" y="14372"/>
                  <a:pt x="1055" y="14364"/>
                </a:cubicBezTo>
                <a:cubicBezTo>
                  <a:pt x="1067" y="14358"/>
                  <a:pt x="1081" y="14348"/>
                  <a:pt x="1092" y="14340"/>
                </a:cubicBezTo>
                <a:cubicBezTo>
                  <a:pt x="1107" y="14329"/>
                  <a:pt x="1123" y="14320"/>
                  <a:pt x="1137" y="14309"/>
                </a:cubicBezTo>
                <a:cubicBezTo>
                  <a:pt x="1148" y="14301"/>
                  <a:pt x="1153" y="14295"/>
                  <a:pt x="1160" y="14285"/>
                </a:cubicBezTo>
                <a:cubicBezTo>
                  <a:pt x="1169" y="14271"/>
                  <a:pt x="1169" y="14258"/>
                  <a:pt x="1174" y="14243"/>
                </a:cubicBezTo>
                <a:cubicBezTo>
                  <a:pt x="1178" y="14232"/>
                  <a:pt x="1181" y="14222"/>
                  <a:pt x="1184" y="14211"/>
                </a:cubicBezTo>
                <a:cubicBezTo>
                  <a:pt x="1188" y="14197"/>
                  <a:pt x="1187" y="14186"/>
                  <a:pt x="1189" y="14172"/>
                </a:cubicBezTo>
                <a:cubicBezTo>
                  <a:pt x="1191" y="14160"/>
                  <a:pt x="1190" y="14153"/>
                  <a:pt x="1189" y="14140"/>
                </a:cubicBezTo>
                <a:cubicBezTo>
                  <a:pt x="1188" y="14129"/>
                  <a:pt x="1184" y="14122"/>
                  <a:pt x="1181" y="14114"/>
                </a:cubicBezTo>
                <a:cubicBezTo>
                  <a:pt x="1179" y="14109"/>
                  <a:pt x="1176" y="14101"/>
                  <a:pt x="1174" y="14096"/>
                </a:cubicBezTo>
                <a:cubicBezTo>
                  <a:pt x="1171" y="14089"/>
                  <a:pt x="1164" y="14082"/>
                  <a:pt x="1160" y="14075"/>
                </a:cubicBezTo>
                <a:cubicBezTo>
                  <a:pt x="1151" y="14059"/>
                  <a:pt x="1136" y="14047"/>
                  <a:pt x="1121" y="14038"/>
                </a:cubicBezTo>
                <a:cubicBezTo>
                  <a:pt x="1096" y="14023"/>
                  <a:pt x="1070" y="14011"/>
                  <a:pt x="1042" y="14001"/>
                </a:cubicBezTo>
                <a:cubicBezTo>
                  <a:pt x="1004" y="13988"/>
                  <a:pt x="995" y="13987"/>
                  <a:pt x="977" y="13970"/>
                </a:cubicBezTo>
              </a:path>
              <a:path w="4186" h="5475">
                <a:moveTo>
                  <a:pt x="1777" y="12523"/>
                </a:moveTo>
                <a:cubicBezTo>
                  <a:pt x="1774" y="12526"/>
                  <a:pt x="1774" y="12524"/>
                  <a:pt x="1769" y="12526"/>
                </a:cubicBezTo>
                <a:cubicBezTo>
                  <a:pt x="1772" y="12530"/>
                  <a:pt x="1773" y="12538"/>
                  <a:pt x="1777" y="12542"/>
                </a:cubicBezTo>
                <a:cubicBezTo>
                  <a:pt x="1782" y="12547"/>
                  <a:pt x="1793" y="12560"/>
                  <a:pt x="1796" y="12563"/>
                </a:cubicBezTo>
                <a:cubicBezTo>
                  <a:pt x="1804" y="12570"/>
                  <a:pt x="1816" y="12579"/>
                  <a:pt x="1825" y="12584"/>
                </a:cubicBezTo>
                <a:cubicBezTo>
                  <a:pt x="1847" y="12597"/>
                  <a:pt x="1871" y="12604"/>
                  <a:pt x="1895" y="12612"/>
                </a:cubicBezTo>
                <a:cubicBezTo>
                  <a:pt x="1945" y="12628"/>
                  <a:pt x="1993" y="12634"/>
                  <a:pt x="2045" y="12636"/>
                </a:cubicBezTo>
                <a:cubicBezTo>
                  <a:pt x="2085" y="12637"/>
                  <a:pt x="2126" y="12637"/>
                  <a:pt x="2166" y="12633"/>
                </a:cubicBezTo>
                <a:cubicBezTo>
                  <a:pt x="2209" y="12628"/>
                  <a:pt x="2250" y="12621"/>
                  <a:pt x="2292" y="12612"/>
                </a:cubicBezTo>
                <a:cubicBezTo>
                  <a:pt x="2326" y="12605"/>
                  <a:pt x="2360" y="12600"/>
                  <a:pt x="2394" y="12594"/>
                </a:cubicBezTo>
                <a:cubicBezTo>
                  <a:pt x="2424" y="12589"/>
                  <a:pt x="2461" y="12590"/>
                  <a:pt x="2489" y="12578"/>
                </a:cubicBezTo>
                <a:cubicBezTo>
                  <a:pt x="2508" y="12570"/>
                  <a:pt x="2527" y="12556"/>
                  <a:pt x="2544" y="12544"/>
                </a:cubicBezTo>
                <a:cubicBezTo>
                  <a:pt x="2552" y="12538"/>
                  <a:pt x="2563" y="12532"/>
                  <a:pt x="2570" y="12526"/>
                </a:cubicBezTo>
                <a:cubicBezTo>
                  <a:pt x="2574" y="12523"/>
                  <a:pt x="2579" y="12517"/>
                  <a:pt x="2581" y="12513"/>
                </a:cubicBezTo>
                <a:cubicBezTo>
                  <a:pt x="2587" y="12501"/>
                  <a:pt x="2591" y="12515"/>
                  <a:pt x="2583" y="12500"/>
                </a:cubicBezTo>
                <a:cubicBezTo>
                  <a:pt x="2577" y="12488"/>
                  <a:pt x="2568" y="12481"/>
                  <a:pt x="2557" y="12471"/>
                </a:cubicBezTo>
              </a:path>
              <a:path w="4186" h="5475">
                <a:moveTo>
                  <a:pt x="2142" y="11793"/>
                </a:moveTo>
                <a:cubicBezTo>
                  <a:pt x="2138" y="11788"/>
                  <a:pt x="2134" y="11776"/>
                  <a:pt x="2127" y="11775"/>
                </a:cubicBezTo>
                <a:cubicBezTo>
                  <a:pt x="2121" y="11774"/>
                  <a:pt x="2107" y="11774"/>
                  <a:pt x="2103" y="11775"/>
                </a:cubicBezTo>
                <a:cubicBezTo>
                  <a:pt x="2101" y="11775"/>
                  <a:pt x="2078" y="11784"/>
                  <a:pt x="2077" y="11785"/>
                </a:cubicBezTo>
                <a:cubicBezTo>
                  <a:pt x="2066" y="11794"/>
                  <a:pt x="2055" y="11810"/>
                  <a:pt x="2048" y="11822"/>
                </a:cubicBezTo>
                <a:cubicBezTo>
                  <a:pt x="2035" y="11843"/>
                  <a:pt x="2026" y="11865"/>
                  <a:pt x="2016" y="11888"/>
                </a:cubicBezTo>
                <a:cubicBezTo>
                  <a:pt x="2004" y="11915"/>
                  <a:pt x="1994" y="11941"/>
                  <a:pt x="1982" y="11967"/>
                </a:cubicBezTo>
                <a:cubicBezTo>
                  <a:pt x="1970" y="11992"/>
                  <a:pt x="1962" y="12018"/>
                  <a:pt x="1961" y="12045"/>
                </a:cubicBezTo>
                <a:cubicBezTo>
                  <a:pt x="1960" y="12073"/>
                  <a:pt x="1956" y="12091"/>
                  <a:pt x="1964" y="12119"/>
                </a:cubicBezTo>
                <a:cubicBezTo>
                  <a:pt x="1971" y="12144"/>
                  <a:pt x="1978" y="12164"/>
                  <a:pt x="1990" y="12187"/>
                </a:cubicBezTo>
                <a:cubicBezTo>
                  <a:pt x="2003" y="12212"/>
                  <a:pt x="2014" y="12231"/>
                  <a:pt x="2035" y="12250"/>
                </a:cubicBezTo>
                <a:cubicBezTo>
                  <a:pt x="2055" y="12268"/>
                  <a:pt x="2076" y="12284"/>
                  <a:pt x="2100" y="12295"/>
                </a:cubicBezTo>
                <a:cubicBezTo>
                  <a:pt x="2125" y="12307"/>
                  <a:pt x="2149" y="12311"/>
                  <a:pt x="2176" y="12311"/>
                </a:cubicBezTo>
                <a:cubicBezTo>
                  <a:pt x="2200" y="12311"/>
                  <a:pt x="2222" y="12307"/>
                  <a:pt x="2245" y="12300"/>
                </a:cubicBezTo>
                <a:cubicBezTo>
                  <a:pt x="2264" y="12294"/>
                  <a:pt x="2281" y="12283"/>
                  <a:pt x="2297" y="12271"/>
                </a:cubicBezTo>
                <a:cubicBezTo>
                  <a:pt x="2313" y="12259"/>
                  <a:pt x="2324" y="12245"/>
                  <a:pt x="2334" y="12227"/>
                </a:cubicBezTo>
                <a:cubicBezTo>
                  <a:pt x="2345" y="12207"/>
                  <a:pt x="2356" y="12185"/>
                  <a:pt x="2363" y="12164"/>
                </a:cubicBezTo>
                <a:cubicBezTo>
                  <a:pt x="2371" y="12142"/>
                  <a:pt x="2378" y="12120"/>
                  <a:pt x="2384" y="12098"/>
                </a:cubicBezTo>
                <a:cubicBezTo>
                  <a:pt x="2388" y="12081"/>
                  <a:pt x="2392" y="12063"/>
                  <a:pt x="2394" y="12045"/>
                </a:cubicBezTo>
                <a:cubicBezTo>
                  <a:pt x="2395" y="12028"/>
                  <a:pt x="2393" y="12012"/>
                  <a:pt x="2389" y="11996"/>
                </a:cubicBezTo>
                <a:cubicBezTo>
                  <a:pt x="2385" y="11981"/>
                  <a:pt x="2380" y="11967"/>
                  <a:pt x="2373" y="11954"/>
                </a:cubicBezTo>
                <a:cubicBezTo>
                  <a:pt x="2365" y="11939"/>
                  <a:pt x="2355" y="11926"/>
                  <a:pt x="2347" y="11912"/>
                </a:cubicBezTo>
                <a:cubicBezTo>
                  <a:pt x="2339" y="11898"/>
                  <a:pt x="2332" y="11889"/>
                  <a:pt x="2321" y="11877"/>
                </a:cubicBezTo>
                <a:cubicBezTo>
                  <a:pt x="2312" y="11868"/>
                  <a:pt x="2302" y="11859"/>
                  <a:pt x="2292" y="11851"/>
                </a:cubicBezTo>
                <a:cubicBezTo>
                  <a:pt x="2279" y="11841"/>
                  <a:pt x="2264" y="11828"/>
                  <a:pt x="2250" y="11820"/>
                </a:cubicBezTo>
                <a:cubicBezTo>
                  <a:pt x="2235" y="11812"/>
                  <a:pt x="2217" y="11804"/>
                  <a:pt x="2200" y="11801"/>
                </a:cubicBezTo>
                <a:cubicBezTo>
                  <a:pt x="2187" y="11798"/>
                  <a:pt x="2171" y="11797"/>
                  <a:pt x="2158" y="11796"/>
                </a:cubicBezTo>
                <a:cubicBezTo>
                  <a:pt x="2145" y="11795"/>
                  <a:pt x="2140" y="11797"/>
                  <a:pt x="2127" y="11799"/>
                </a:cubicBezTo>
                <a:cubicBezTo>
                  <a:pt x="2107" y="11803"/>
                  <a:pt x="2126" y="11789"/>
                  <a:pt x="2119" y="11804"/>
                </a:cubicBezTo>
                <a:cubicBezTo>
                  <a:pt x="2120" y="11807"/>
                  <a:pt x="2120" y="11809"/>
                  <a:pt x="2121" y="11812"/>
                </a:cubicBezTo>
              </a:path>
              <a:path w="4186" h="5475">
                <a:moveTo>
                  <a:pt x="1982" y="12032"/>
                </a:moveTo>
                <a:cubicBezTo>
                  <a:pt x="1988" y="12033"/>
                  <a:pt x="1981" y="12031"/>
                  <a:pt x="1987" y="12032"/>
                </a:cubicBezTo>
                <a:cubicBezTo>
                  <a:pt x="1997" y="12034"/>
                  <a:pt x="2004" y="12036"/>
                  <a:pt x="2016" y="12038"/>
                </a:cubicBezTo>
                <a:cubicBezTo>
                  <a:pt x="2032" y="12041"/>
                  <a:pt x="2048" y="12043"/>
                  <a:pt x="2064" y="12043"/>
                </a:cubicBezTo>
                <a:cubicBezTo>
                  <a:pt x="2083" y="12043"/>
                  <a:pt x="2100" y="12037"/>
                  <a:pt x="2119" y="12035"/>
                </a:cubicBezTo>
                <a:cubicBezTo>
                  <a:pt x="2136" y="12033"/>
                  <a:pt x="2152" y="12030"/>
                  <a:pt x="2169" y="12027"/>
                </a:cubicBezTo>
                <a:cubicBezTo>
                  <a:pt x="2181" y="12025"/>
                  <a:pt x="2191" y="12022"/>
                  <a:pt x="2203" y="12019"/>
                </a:cubicBezTo>
                <a:cubicBezTo>
                  <a:pt x="2215" y="12016"/>
                  <a:pt x="2223" y="12007"/>
                  <a:pt x="2234" y="12003"/>
                </a:cubicBezTo>
                <a:cubicBezTo>
                  <a:pt x="2242" y="12000"/>
                  <a:pt x="2255" y="11994"/>
                  <a:pt x="2263" y="11993"/>
                </a:cubicBezTo>
                <a:cubicBezTo>
                  <a:pt x="2270" y="11992"/>
                  <a:pt x="2277" y="11991"/>
                  <a:pt x="2284" y="11990"/>
                </a:cubicBezTo>
                <a:cubicBezTo>
                  <a:pt x="2297" y="11989"/>
                  <a:pt x="2309" y="11991"/>
                  <a:pt x="2321" y="11988"/>
                </a:cubicBezTo>
                <a:cubicBezTo>
                  <a:pt x="2328" y="11986"/>
                  <a:pt x="2335" y="11983"/>
                  <a:pt x="2342" y="11980"/>
                </a:cubicBezTo>
                <a:cubicBezTo>
                  <a:pt x="2348" y="11978"/>
                  <a:pt x="2350" y="11978"/>
                  <a:pt x="2355" y="11972"/>
                </a:cubicBezTo>
                <a:cubicBezTo>
                  <a:pt x="2360" y="11966"/>
                  <a:pt x="2368" y="11955"/>
                  <a:pt x="2368" y="11946"/>
                </a:cubicBezTo>
                <a:cubicBezTo>
                  <a:pt x="2365" y="11937"/>
                  <a:pt x="2364" y="11935"/>
                  <a:pt x="2368" y="11930"/>
                </a:cubicBezTo>
              </a:path>
              <a:path w="4186" h="5475">
                <a:moveTo>
                  <a:pt x="858" y="12266"/>
                </a:moveTo>
                <a:cubicBezTo>
                  <a:pt x="802" y="12335"/>
                  <a:pt x="737" y="12368"/>
                  <a:pt x="706" y="12471"/>
                </a:cubicBezTo>
                <a:cubicBezTo>
                  <a:pt x="622" y="12753"/>
                  <a:pt x="809" y="13044"/>
                  <a:pt x="756" y="13340"/>
                </a:cubicBezTo>
                <a:cubicBezTo>
                  <a:pt x="689" y="13713"/>
                  <a:pt x="548" y="14013"/>
                  <a:pt x="730" y="14377"/>
                </a:cubicBezTo>
                <a:cubicBezTo>
                  <a:pt x="797" y="14510"/>
                  <a:pt x="885" y="14625"/>
                  <a:pt x="1005" y="14715"/>
                </a:cubicBezTo>
                <a:cubicBezTo>
                  <a:pt x="1042" y="14743"/>
                  <a:pt x="1085" y="14750"/>
                  <a:pt x="1124" y="14771"/>
                </a:cubicBezTo>
                <a:cubicBezTo>
                  <a:pt x="1217" y="14823"/>
                  <a:pt x="1314" y="14856"/>
                  <a:pt x="1412" y="14897"/>
                </a:cubicBezTo>
                <a:cubicBezTo>
                  <a:pt x="1506" y="14937"/>
                  <a:pt x="1634" y="14981"/>
                  <a:pt x="1709" y="15054"/>
                </a:cubicBezTo>
                <a:cubicBezTo>
                  <a:pt x="1723" y="15068"/>
                  <a:pt x="1731" y="15087"/>
                  <a:pt x="1743" y="15101"/>
                </a:cubicBezTo>
                <a:cubicBezTo>
                  <a:pt x="1892" y="15281"/>
                  <a:pt x="1944" y="15416"/>
                  <a:pt x="2184" y="15514"/>
                </a:cubicBezTo>
                <a:cubicBezTo>
                  <a:pt x="2340" y="15578"/>
                  <a:pt x="2486" y="15583"/>
                  <a:pt x="2649" y="15550"/>
                </a:cubicBezTo>
                <a:cubicBezTo>
                  <a:pt x="2841" y="15512"/>
                  <a:pt x="3012" y="15433"/>
                  <a:pt x="3103" y="15251"/>
                </a:cubicBezTo>
                <a:cubicBezTo>
                  <a:pt x="3146" y="15165"/>
                  <a:pt x="3150" y="15064"/>
                  <a:pt x="3187" y="14975"/>
                </a:cubicBezTo>
                <a:cubicBezTo>
                  <a:pt x="3299" y="14708"/>
                  <a:pt x="3518" y="14654"/>
                  <a:pt x="3725" y="14492"/>
                </a:cubicBezTo>
                <a:cubicBezTo>
                  <a:pt x="3849" y="14396"/>
                  <a:pt x="3978" y="14253"/>
                  <a:pt x="4051" y="14114"/>
                </a:cubicBezTo>
                <a:cubicBezTo>
                  <a:pt x="4141" y="13942"/>
                  <a:pt x="4128" y="13769"/>
                  <a:pt x="4098" y="13584"/>
                </a:cubicBezTo>
                <a:cubicBezTo>
                  <a:pt x="4062" y="13362"/>
                  <a:pt x="4045" y="13208"/>
                  <a:pt x="4111" y="12993"/>
                </a:cubicBezTo>
                <a:cubicBezTo>
                  <a:pt x="4187" y="12746"/>
                  <a:pt x="4182" y="12584"/>
                  <a:pt x="4009" y="12379"/>
                </a:cubicBezTo>
                <a:cubicBezTo>
                  <a:pt x="3834" y="12171"/>
                  <a:pt x="3708" y="12053"/>
                  <a:pt x="3660" y="11775"/>
                </a:cubicBezTo>
                <a:cubicBezTo>
                  <a:pt x="3628" y="11589"/>
                  <a:pt x="3606" y="11421"/>
                  <a:pt x="3497" y="11258"/>
                </a:cubicBezTo>
                <a:cubicBezTo>
                  <a:pt x="3429" y="11157"/>
                  <a:pt x="3335" y="11063"/>
                  <a:pt x="3234" y="10995"/>
                </a:cubicBezTo>
                <a:cubicBezTo>
                  <a:pt x="3154" y="10941"/>
                  <a:pt x="3048" y="10876"/>
                  <a:pt x="2956" y="10846"/>
                </a:cubicBezTo>
                <a:cubicBezTo>
                  <a:pt x="2818" y="10801"/>
                  <a:pt x="2698" y="10814"/>
                  <a:pt x="2562" y="10856"/>
                </a:cubicBezTo>
                <a:cubicBezTo>
                  <a:pt x="2400" y="10907"/>
                  <a:pt x="2350" y="10996"/>
                  <a:pt x="2274" y="11129"/>
                </a:cubicBezTo>
                <a:cubicBezTo>
                  <a:pt x="2237" y="11194"/>
                  <a:pt x="2229" y="11230"/>
                  <a:pt x="2163" y="11271"/>
                </a:cubicBezTo>
                <a:cubicBezTo>
                  <a:pt x="2095" y="11313"/>
                  <a:pt x="2011" y="11315"/>
                  <a:pt x="1935" y="11326"/>
                </a:cubicBezTo>
                <a:cubicBezTo>
                  <a:pt x="1832" y="11341"/>
                  <a:pt x="1721" y="11330"/>
                  <a:pt x="1620" y="11347"/>
                </a:cubicBezTo>
                <a:cubicBezTo>
                  <a:pt x="1568" y="11356"/>
                  <a:pt x="1531" y="11371"/>
                  <a:pt x="1481" y="11389"/>
                </a:cubicBezTo>
                <a:cubicBezTo>
                  <a:pt x="1373" y="11427"/>
                  <a:pt x="1322" y="11485"/>
                  <a:pt x="1242" y="11552"/>
                </a:cubicBezTo>
                <a:cubicBezTo>
                  <a:pt x="1108" y="11665"/>
                  <a:pt x="1045" y="11761"/>
                  <a:pt x="958" y="11919"/>
                </a:cubicBezTo>
                <a:cubicBezTo>
                  <a:pt x="881" y="12059"/>
                  <a:pt x="829" y="12191"/>
                  <a:pt x="780" y="123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antP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 9 CYGs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at each of 3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Gs referenced against random 3D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81680" y="1143000"/>
          <a:ext cx="4086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1680" y="1143000"/>
                    <a:ext cx="4086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371600"/>
            <a:ext cx="5867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urrentYears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 to user interface and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e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rp will be external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867280" y="1828800"/>
          <a:ext cx="2963880" cy="38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828800"/>
                    <a:ext cx="296388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60020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has Picture, TreeView, Data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6858000" cy="4983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81120" y="2362320"/>
            <a:ext cx="3067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th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29528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wizard walks biologists through a way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1 ops per p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181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29528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32 3Drp service must be C+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-46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main could be C#, Java, VB, or anything. Hm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09680" y="4627440"/>
            <a:ext cx="2286000" cy="200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794640" y="4038480"/>
            <a:ext cx="2273040" cy="2538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1828800" cy="171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527720" y="3048120"/>
            <a:ext cx="217800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lem Domai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ti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sts like guessing how many moose there will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easure and count the tasty moose s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ty moose sticks are called Current Year’s Growths (CYG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redominent ways to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austive measuring of complete plants and si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site grids much like arche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ance techniques like sonar and infra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processing techniques (aerial pho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96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lem Solu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ing all those stic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palinger suggests a model where they measure 9 sticks per plant and then guess with stat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icks per meter of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computer and measur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have USB toys for meas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at’s where we come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en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ies like the Forest Service give biologists a list of GPS waypoints in a Comma Separated file (CSV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go to the way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measure moose forage using USB hardware and tablet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sts then export the measurement data for each waypoint as a CSV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at no XM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quirements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beb6b6"/>
                </a:solidFill>
                <a:latin typeface="Arial"/>
              </a:rPr>
              <a:t>W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SC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mport GPS UTM latitude and longit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nder and edit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ord PlantPatch’s species, distance and di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ample PlantPatch’s CY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port data to C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ime stamp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Attach biologists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ave/Load application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Hardware sensor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Undo/re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eb6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6b6"/>
                </a:solidFill>
                <a:latin typeface="Arial"/>
              </a:rPr>
              <a:t>Statistical projections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beb6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eb6b6"/>
                </a:solidFill>
                <a:latin typeface="Arial"/>
              </a:rPr>
              <a:t>XML 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o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hemus Patriot (3Dr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070080" cy="3200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86200" y="48769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utoyo Cali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446640"/>
            <a:ext cx="3429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: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ecies first or species by pa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en math? Coordinate trans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Drp API is VC++ 6? Direct3D or VRM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totyping Life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ing and Vi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lan in M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g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hs.jimweller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eekly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sciplined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: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0080" cy="4496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969240" y="6334200"/>
            <a:ext cx="6120" cy="7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19360" y="17593"/>
                </a:moveTo>
                <a:cubicBezTo>
                  <a:pt x="19366" y="17604"/>
                  <a:pt x="19368" y="17609"/>
                  <a:pt x="19376" y="17614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lan: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850080" cy="4496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39840" y="3719520"/>
            <a:ext cx="690480" cy="644400"/>
          </a:xfrm>
          <a:custGeom>
            <a:avLst/>
            <a:gdLst/>
            <a:ahLst/>
            <a:rect l="l" t="t" r="r" b="b"/>
            <a:pathLst>
              <a:path w="1915" h="1793">
                <a:moveTo>
                  <a:pt x="1979" y="12976"/>
                </a:moveTo>
                <a:cubicBezTo>
                  <a:pt x="1979" y="12993"/>
                  <a:pt x="1979" y="13010"/>
                  <a:pt x="1979" y="13034"/>
                </a:cubicBezTo>
                <a:cubicBezTo>
                  <a:pt x="1979" y="13084"/>
                  <a:pt x="1984" y="13131"/>
                  <a:pt x="1990" y="13181"/>
                </a:cubicBezTo>
                <a:cubicBezTo>
                  <a:pt x="1999" y="13257"/>
                  <a:pt x="2015" y="13334"/>
                  <a:pt x="2037" y="13408"/>
                </a:cubicBezTo>
                <a:cubicBezTo>
                  <a:pt x="2063" y="13495"/>
                  <a:pt x="2092" y="13578"/>
                  <a:pt x="2116" y="13666"/>
                </a:cubicBezTo>
                <a:cubicBezTo>
                  <a:pt x="2132" y="13724"/>
                  <a:pt x="2158" y="13777"/>
                  <a:pt x="2180" y="13829"/>
                </a:cubicBezTo>
                <a:cubicBezTo>
                  <a:pt x="2191" y="13855"/>
                  <a:pt x="2178" y="13837"/>
                  <a:pt x="2195" y="13856"/>
                </a:cubicBezTo>
                <a:cubicBezTo>
                  <a:pt x="2190" y="13841"/>
                  <a:pt x="2188" y="13818"/>
                  <a:pt x="2180" y="13803"/>
                </a:cubicBezTo>
                <a:cubicBezTo>
                  <a:pt x="2156" y="13758"/>
                  <a:pt x="2135" y="13717"/>
                  <a:pt x="2111" y="13671"/>
                </a:cubicBezTo>
              </a:path>
              <a:path w="1915" h="1793">
                <a:moveTo>
                  <a:pt x="1384" y="12543"/>
                </a:moveTo>
                <a:cubicBezTo>
                  <a:pt x="1375" y="12539"/>
                  <a:pt x="1369" y="12537"/>
                  <a:pt x="1378" y="12538"/>
                </a:cubicBezTo>
                <a:cubicBezTo>
                  <a:pt x="1386" y="12547"/>
                  <a:pt x="1386" y="12550"/>
                  <a:pt x="1394" y="12559"/>
                </a:cubicBezTo>
                <a:cubicBezTo>
                  <a:pt x="1424" y="12590"/>
                  <a:pt x="1451" y="12619"/>
                  <a:pt x="1478" y="12654"/>
                </a:cubicBezTo>
                <a:cubicBezTo>
                  <a:pt x="1526" y="12717"/>
                  <a:pt x="1577" y="12776"/>
                  <a:pt x="1626" y="12839"/>
                </a:cubicBezTo>
                <a:cubicBezTo>
                  <a:pt x="1687" y="12918"/>
                  <a:pt x="1759" y="12988"/>
                  <a:pt x="1821" y="13065"/>
                </a:cubicBezTo>
                <a:cubicBezTo>
                  <a:pt x="1851" y="13102"/>
                  <a:pt x="1878" y="13141"/>
                  <a:pt x="1916" y="13171"/>
                </a:cubicBezTo>
                <a:cubicBezTo>
                  <a:pt x="1925" y="13178"/>
                  <a:pt x="1933" y="13181"/>
                  <a:pt x="1942" y="13186"/>
                </a:cubicBezTo>
                <a:cubicBezTo>
                  <a:pt x="1946" y="13164"/>
                  <a:pt x="1955" y="13140"/>
                  <a:pt x="1958" y="13118"/>
                </a:cubicBezTo>
                <a:cubicBezTo>
                  <a:pt x="1963" y="13081"/>
                  <a:pt x="1959" y="13032"/>
                  <a:pt x="1969" y="12997"/>
                </a:cubicBezTo>
                <a:cubicBezTo>
                  <a:pt x="1974" y="12988"/>
                  <a:pt x="1979" y="12979"/>
                  <a:pt x="1984" y="12970"/>
                </a:cubicBezTo>
              </a:path>
              <a:path w="1915" h="1793">
                <a:moveTo>
                  <a:pt x="2011" y="12064"/>
                </a:moveTo>
                <a:cubicBezTo>
                  <a:pt x="2011" y="12094"/>
                  <a:pt x="2013" y="12127"/>
                  <a:pt x="2016" y="12159"/>
                </a:cubicBezTo>
                <a:cubicBezTo>
                  <a:pt x="2026" y="12252"/>
                  <a:pt x="2034" y="12345"/>
                  <a:pt x="2042" y="12438"/>
                </a:cubicBezTo>
                <a:cubicBezTo>
                  <a:pt x="2054" y="12575"/>
                  <a:pt x="2069" y="12711"/>
                  <a:pt x="2079" y="12849"/>
                </a:cubicBezTo>
                <a:cubicBezTo>
                  <a:pt x="2087" y="12960"/>
                  <a:pt x="2096" y="13070"/>
                  <a:pt x="2106" y="13181"/>
                </a:cubicBezTo>
                <a:cubicBezTo>
                  <a:pt x="2106" y="13185"/>
                  <a:pt x="2115" y="13300"/>
                  <a:pt x="2122" y="13302"/>
                </a:cubicBezTo>
                <a:cubicBezTo>
                  <a:pt x="2138" y="13306"/>
                  <a:pt x="2132" y="13291"/>
                  <a:pt x="2132" y="13276"/>
                </a:cubicBezTo>
              </a:path>
              <a:path w="1915" h="1793">
                <a:moveTo>
                  <a:pt x="2522" y="12976"/>
                </a:moveTo>
                <a:cubicBezTo>
                  <a:pt x="2521" y="12981"/>
                  <a:pt x="2520" y="12989"/>
                  <a:pt x="2517" y="13002"/>
                </a:cubicBezTo>
                <a:cubicBezTo>
                  <a:pt x="2507" y="13045"/>
                  <a:pt x="2508" y="13095"/>
                  <a:pt x="2506" y="13139"/>
                </a:cubicBezTo>
                <a:cubicBezTo>
                  <a:pt x="2503" y="13210"/>
                  <a:pt x="2508" y="13297"/>
                  <a:pt x="2522" y="13366"/>
                </a:cubicBezTo>
                <a:cubicBezTo>
                  <a:pt x="2534" y="13425"/>
                  <a:pt x="2560" y="13485"/>
                  <a:pt x="2607" y="13524"/>
                </a:cubicBezTo>
                <a:cubicBezTo>
                  <a:pt x="2645" y="13556"/>
                  <a:pt x="2683" y="13555"/>
                  <a:pt x="2717" y="13518"/>
                </a:cubicBezTo>
                <a:cubicBezTo>
                  <a:pt x="2752" y="13480"/>
                  <a:pt x="2765" y="13409"/>
                  <a:pt x="2765" y="13360"/>
                </a:cubicBezTo>
                <a:cubicBezTo>
                  <a:pt x="2765" y="13286"/>
                  <a:pt x="2738" y="13195"/>
                  <a:pt x="2707" y="13128"/>
                </a:cubicBezTo>
                <a:cubicBezTo>
                  <a:pt x="2683" y="13075"/>
                  <a:pt x="2647" y="13023"/>
                  <a:pt x="2607" y="12981"/>
                </a:cubicBezTo>
                <a:cubicBezTo>
                  <a:pt x="2592" y="12966"/>
                  <a:pt x="2589" y="12962"/>
                  <a:pt x="2575" y="12960"/>
                </a:cubicBezTo>
                <a:cubicBezTo>
                  <a:pt x="2557" y="12978"/>
                  <a:pt x="2555" y="12982"/>
                  <a:pt x="2554" y="13012"/>
                </a:cubicBezTo>
                <a:cubicBezTo>
                  <a:pt x="2553" y="13054"/>
                  <a:pt x="2557" y="13094"/>
                  <a:pt x="2570" y="13134"/>
                </a:cubicBezTo>
                <a:cubicBezTo>
                  <a:pt x="2575" y="13150"/>
                  <a:pt x="2595" y="13177"/>
                  <a:pt x="2601" y="13186"/>
                </a:cubicBezTo>
              </a:path>
              <a:path w="1915" h="1793">
                <a:moveTo>
                  <a:pt x="2886" y="12881"/>
                </a:moveTo>
                <a:cubicBezTo>
                  <a:pt x="2890" y="12950"/>
                  <a:pt x="2896" y="13024"/>
                  <a:pt x="2912" y="13092"/>
                </a:cubicBezTo>
                <a:cubicBezTo>
                  <a:pt x="2928" y="13160"/>
                  <a:pt x="2971" y="13256"/>
                  <a:pt x="3039" y="13287"/>
                </a:cubicBezTo>
                <a:cubicBezTo>
                  <a:pt x="3096" y="13313"/>
                  <a:pt x="3149" y="13295"/>
                  <a:pt x="3192" y="13255"/>
                </a:cubicBezTo>
                <a:cubicBezTo>
                  <a:pt x="3248" y="13202"/>
                  <a:pt x="3279" y="13104"/>
                  <a:pt x="3287" y="13028"/>
                </a:cubicBezTo>
                <a:cubicBezTo>
                  <a:pt x="3297" y="12927"/>
                  <a:pt x="3287" y="12810"/>
                  <a:pt x="3260" y="12712"/>
                </a:cubicBezTo>
                <a:cubicBezTo>
                  <a:pt x="3240" y="12638"/>
                  <a:pt x="3201" y="12572"/>
                  <a:pt x="3176" y="12501"/>
                </a:cubicBezTo>
                <a:cubicBezTo>
                  <a:pt x="3174" y="12497"/>
                  <a:pt x="3144" y="12431"/>
                  <a:pt x="3160" y="12459"/>
                </a:cubicBezTo>
                <a:cubicBezTo>
                  <a:pt x="3169" y="12476"/>
                  <a:pt x="3178" y="12497"/>
                  <a:pt x="3186" y="12512"/>
                </a:cubicBezTo>
                <a:cubicBezTo>
                  <a:pt x="3191" y="12521"/>
                  <a:pt x="3197" y="12529"/>
                  <a:pt x="3202" y="1253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3429000"/>
            <a:ext cx="654120" cy="595440"/>
          </a:xfrm>
          <a:custGeom>
            <a:avLst/>
            <a:gdLst/>
            <a:ahLst/>
            <a:rect l="l" t="t" r="r" b="b"/>
            <a:pathLst>
              <a:path w="1819" h="1656">
                <a:moveTo>
                  <a:pt x="4025" y="11758"/>
                </a:moveTo>
                <a:cubicBezTo>
                  <a:pt x="4038" y="11877"/>
                  <a:pt x="4057" y="11997"/>
                  <a:pt x="4077" y="12116"/>
                </a:cubicBezTo>
                <a:cubicBezTo>
                  <a:pt x="4107" y="12291"/>
                  <a:pt x="4134" y="12471"/>
                  <a:pt x="4177" y="12643"/>
                </a:cubicBezTo>
                <a:cubicBezTo>
                  <a:pt x="4196" y="12718"/>
                  <a:pt x="4213" y="12795"/>
                  <a:pt x="4235" y="12870"/>
                </a:cubicBezTo>
                <a:cubicBezTo>
                  <a:pt x="4239" y="12884"/>
                  <a:pt x="4242" y="12898"/>
                  <a:pt x="4246" y="12912"/>
                </a:cubicBezTo>
                <a:cubicBezTo>
                  <a:pt x="4240" y="12873"/>
                  <a:pt x="4236" y="12835"/>
                  <a:pt x="4230" y="12796"/>
                </a:cubicBezTo>
                <a:cubicBezTo>
                  <a:pt x="4212" y="12683"/>
                  <a:pt x="4185" y="12572"/>
                  <a:pt x="4167" y="12459"/>
                </a:cubicBezTo>
                <a:cubicBezTo>
                  <a:pt x="4129" y="12225"/>
                  <a:pt x="4095" y="11984"/>
                  <a:pt x="4088" y="11747"/>
                </a:cubicBezTo>
                <a:cubicBezTo>
                  <a:pt x="4085" y="11650"/>
                  <a:pt x="4078" y="11543"/>
                  <a:pt x="4093" y="11447"/>
                </a:cubicBezTo>
                <a:cubicBezTo>
                  <a:pt x="4099" y="11410"/>
                  <a:pt x="4114" y="11394"/>
                  <a:pt x="4130" y="11363"/>
                </a:cubicBezTo>
                <a:cubicBezTo>
                  <a:pt x="4157" y="11382"/>
                  <a:pt x="4159" y="11372"/>
                  <a:pt x="4188" y="11421"/>
                </a:cubicBezTo>
                <a:cubicBezTo>
                  <a:pt x="4235" y="11502"/>
                  <a:pt x="4254" y="11590"/>
                  <a:pt x="4283" y="11679"/>
                </a:cubicBezTo>
                <a:cubicBezTo>
                  <a:pt x="4340" y="11851"/>
                  <a:pt x="4396" y="12023"/>
                  <a:pt x="4451" y="12195"/>
                </a:cubicBezTo>
                <a:cubicBezTo>
                  <a:pt x="4506" y="12367"/>
                  <a:pt x="4567" y="12537"/>
                  <a:pt x="4625" y="12707"/>
                </a:cubicBezTo>
                <a:cubicBezTo>
                  <a:pt x="4625" y="12708"/>
                  <a:pt x="4672" y="12831"/>
                  <a:pt x="4662" y="12833"/>
                </a:cubicBezTo>
                <a:cubicBezTo>
                  <a:pt x="4644" y="12810"/>
                  <a:pt x="4637" y="12806"/>
                  <a:pt x="4641" y="12786"/>
                </a:cubicBezTo>
              </a:path>
              <a:path w="1819" h="1656">
                <a:moveTo>
                  <a:pt x="4256" y="12412"/>
                </a:moveTo>
                <a:cubicBezTo>
                  <a:pt x="4272" y="12382"/>
                  <a:pt x="4292" y="12354"/>
                  <a:pt x="4314" y="12327"/>
                </a:cubicBezTo>
                <a:cubicBezTo>
                  <a:pt x="4352" y="12279"/>
                  <a:pt x="4386" y="12228"/>
                  <a:pt x="4425" y="12180"/>
                </a:cubicBezTo>
                <a:cubicBezTo>
                  <a:pt x="4459" y="12139"/>
                  <a:pt x="4519" y="12054"/>
                  <a:pt x="4557" y="12027"/>
                </a:cubicBezTo>
                <a:cubicBezTo>
                  <a:pt x="4571" y="12023"/>
                  <a:pt x="4585" y="12020"/>
                  <a:pt x="4599" y="12016"/>
                </a:cubicBezTo>
              </a:path>
              <a:path w="1819" h="1656">
                <a:moveTo>
                  <a:pt x="4831" y="12164"/>
                </a:moveTo>
                <a:cubicBezTo>
                  <a:pt x="4864" y="12217"/>
                  <a:pt x="4893" y="12271"/>
                  <a:pt x="4921" y="12327"/>
                </a:cubicBezTo>
                <a:cubicBezTo>
                  <a:pt x="4938" y="12359"/>
                  <a:pt x="4948" y="12395"/>
                  <a:pt x="4963" y="12427"/>
                </a:cubicBezTo>
                <a:cubicBezTo>
                  <a:pt x="4967" y="12436"/>
                  <a:pt x="4968" y="12439"/>
                  <a:pt x="4973" y="12443"/>
                </a:cubicBezTo>
                <a:cubicBezTo>
                  <a:pt x="4971" y="12435"/>
                  <a:pt x="4975" y="12446"/>
                  <a:pt x="4973" y="12438"/>
                </a:cubicBezTo>
                <a:cubicBezTo>
                  <a:pt x="4965" y="12404"/>
                  <a:pt x="4950" y="12372"/>
                  <a:pt x="4942" y="12338"/>
                </a:cubicBezTo>
                <a:cubicBezTo>
                  <a:pt x="4924" y="12263"/>
                  <a:pt x="4908" y="12187"/>
                  <a:pt x="4894" y="12111"/>
                </a:cubicBezTo>
                <a:cubicBezTo>
                  <a:pt x="4880" y="12034"/>
                  <a:pt x="4879" y="11956"/>
                  <a:pt x="4894" y="11879"/>
                </a:cubicBezTo>
                <a:cubicBezTo>
                  <a:pt x="4906" y="11819"/>
                  <a:pt x="4932" y="11777"/>
                  <a:pt x="4963" y="11726"/>
                </a:cubicBezTo>
                <a:cubicBezTo>
                  <a:pt x="4986" y="11688"/>
                  <a:pt x="4990" y="11676"/>
                  <a:pt x="5021" y="11674"/>
                </a:cubicBezTo>
              </a:path>
              <a:path w="1819" h="1656">
                <a:moveTo>
                  <a:pt x="5342" y="11821"/>
                </a:moveTo>
                <a:cubicBezTo>
                  <a:pt x="5370" y="11788"/>
                  <a:pt x="5393" y="11758"/>
                  <a:pt x="5416" y="11721"/>
                </a:cubicBezTo>
                <a:cubicBezTo>
                  <a:pt x="5439" y="11685"/>
                  <a:pt x="5459" y="11644"/>
                  <a:pt x="5464" y="11600"/>
                </a:cubicBezTo>
                <a:cubicBezTo>
                  <a:pt x="5468" y="11568"/>
                  <a:pt x="5462" y="11544"/>
                  <a:pt x="5448" y="11516"/>
                </a:cubicBezTo>
                <a:cubicBezTo>
                  <a:pt x="5444" y="11512"/>
                  <a:pt x="5441" y="11509"/>
                  <a:pt x="5437" y="11505"/>
                </a:cubicBezTo>
                <a:cubicBezTo>
                  <a:pt x="5404" y="11524"/>
                  <a:pt x="5397" y="11529"/>
                  <a:pt x="5385" y="11573"/>
                </a:cubicBezTo>
                <a:cubicBezTo>
                  <a:pt x="5361" y="11661"/>
                  <a:pt x="5349" y="11741"/>
                  <a:pt x="5348" y="11832"/>
                </a:cubicBezTo>
                <a:cubicBezTo>
                  <a:pt x="5346" y="11943"/>
                  <a:pt x="5355" y="12031"/>
                  <a:pt x="5385" y="12137"/>
                </a:cubicBezTo>
                <a:cubicBezTo>
                  <a:pt x="5399" y="12188"/>
                  <a:pt x="5409" y="12221"/>
                  <a:pt x="5437" y="12264"/>
                </a:cubicBezTo>
                <a:cubicBezTo>
                  <a:pt x="5493" y="12254"/>
                  <a:pt x="5500" y="12255"/>
                  <a:pt x="5532" y="12190"/>
                </a:cubicBezTo>
                <a:cubicBezTo>
                  <a:pt x="5584" y="12083"/>
                  <a:pt x="5605" y="11960"/>
                  <a:pt x="5643" y="11848"/>
                </a:cubicBezTo>
                <a:cubicBezTo>
                  <a:pt x="5690" y="11709"/>
                  <a:pt x="5740" y="11571"/>
                  <a:pt x="5785" y="11431"/>
                </a:cubicBezTo>
                <a:cubicBezTo>
                  <a:pt x="5806" y="11366"/>
                  <a:pt x="5831" y="11320"/>
                  <a:pt x="5843" y="1125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55520" y="4270320"/>
            <a:ext cx="963720" cy="549360"/>
          </a:xfrm>
          <a:custGeom>
            <a:avLst/>
            <a:gdLst/>
            <a:ahLst/>
            <a:rect l="l" t="t" r="r" b="b"/>
            <a:pathLst>
              <a:path w="2674" h="1525">
                <a:moveTo>
                  <a:pt x="2939" y="12264"/>
                </a:moveTo>
                <a:cubicBezTo>
                  <a:pt x="2939" y="12293"/>
                  <a:pt x="2935" y="12332"/>
                  <a:pt x="2939" y="12364"/>
                </a:cubicBezTo>
                <a:cubicBezTo>
                  <a:pt x="2950" y="12450"/>
                  <a:pt x="2957" y="12536"/>
                  <a:pt x="2970" y="12622"/>
                </a:cubicBezTo>
                <a:cubicBezTo>
                  <a:pt x="2990" y="12750"/>
                  <a:pt x="3013" y="12880"/>
                  <a:pt x="3039" y="13007"/>
                </a:cubicBezTo>
                <a:cubicBezTo>
                  <a:pt x="3060" y="13110"/>
                  <a:pt x="3087" y="13211"/>
                  <a:pt x="3128" y="13308"/>
                </a:cubicBezTo>
                <a:cubicBezTo>
                  <a:pt x="3145" y="13348"/>
                  <a:pt x="3154" y="13367"/>
                  <a:pt x="3186" y="13387"/>
                </a:cubicBezTo>
                <a:cubicBezTo>
                  <a:pt x="3207" y="13358"/>
                  <a:pt x="3227" y="13322"/>
                  <a:pt x="3229" y="13276"/>
                </a:cubicBezTo>
                <a:cubicBezTo>
                  <a:pt x="3227" y="13255"/>
                  <a:pt x="3225" y="13234"/>
                  <a:pt x="3223" y="13213"/>
                </a:cubicBezTo>
              </a:path>
              <a:path w="2674" h="1525">
                <a:moveTo>
                  <a:pt x="3207" y="12143"/>
                </a:moveTo>
                <a:cubicBezTo>
                  <a:pt x="3215" y="12193"/>
                  <a:pt x="3218" y="12245"/>
                  <a:pt x="3223" y="12296"/>
                </a:cubicBezTo>
                <a:cubicBezTo>
                  <a:pt x="3233" y="12407"/>
                  <a:pt x="3240" y="12519"/>
                  <a:pt x="3260" y="12628"/>
                </a:cubicBezTo>
                <a:cubicBezTo>
                  <a:pt x="3282" y="12747"/>
                  <a:pt x="3302" y="12869"/>
                  <a:pt x="3334" y="12986"/>
                </a:cubicBezTo>
                <a:cubicBezTo>
                  <a:pt x="3354" y="13059"/>
                  <a:pt x="3372" y="13131"/>
                  <a:pt x="3408" y="13197"/>
                </a:cubicBezTo>
                <a:cubicBezTo>
                  <a:pt x="3423" y="13224"/>
                  <a:pt x="3435" y="13271"/>
                  <a:pt x="3429" y="13218"/>
                </a:cubicBezTo>
                <a:cubicBezTo>
                  <a:pt x="3429" y="13213"/>
                  <a:pt x="3429" y="13207"/>
                  <a:pt x="3429" y="13202"/>
                </a:cubicBezTo>
              </a:path>
              <a:path w="2674" h="1525">
                <a:moveTo>
                  <a:pt x="3149" y="12965"/>
                </a:moveTo>
                <a:cubicBezTo>
                  <a:pt x="3144" y="12963"/>
                  <a:pt x="3139" y="12962"/>
                  <a:pt x="3134" y="12960"/>
                </a:cubicBezTo>
                <a:cubicBezTo>
                  <a:pt x="3139" y="12955"/>
                  <a:pt x="3153" y="12946"/>
                  <a:pt x="3160" y="12939"/>
                </a:cubicBezTo>
                <a:cubicBezTo>
                  <a:pt x="3185" y="12912"/>
                  <a:pt x="3214" y="12888"/>
                  <a:pt x="3239" y="12860"/>
                </a:cubicBezTo>
                <a:cubicBezTo>
                  <a:pt x="3283" y="12810"/>
                  <a:pt x="3334" y="12770"/>
                  <a:pt x="3381" y="12723"/>
                </a:cubicBezTo>
                <a:cubicBezTo>
                  <a:pt x="3434" y="12670"/>
                  <a:pt x="3487" y="12630"/>
                  <a:pt x="3540" y="12586"/>
                </a:cubicBezTo>
                <a:cubicBezTo>
                  <a:pt x="3550" y="12574"/>
                  <a:pt x="3561" y="12561"/>
                  <a:pt x="3571" y="12549"/>
                </a:cubicBezTo>
              </a:path>
              <a:path w="2674" h="1525">
                <a:moveTo>
                  <a:pt x="3819" y="12775"/>
                </a:moveTo>
                <a:cubicBezTo>
                  <a:pt x="3862" y="12734"/>
                  <a:pt x="3884" y="12688"/>
                  <a:pt x="3914" y="12633"/>
                </a:cubicBezTo>
                <a:cubicBezTo>
                  <a:pt x="3942" y="12581"/>
                  <a:pt x="3983" y="12516"/>
                  <a:pt x="3998" y="12459"/>
                </a:cubicBezTo>
                <a:cubicBezTo>
                  <a:pt x="4008" y="12420"/>
                  <a:pt x="4006" y="12384"/>
                  <a:pt x="4003" y="12348"/>
                </a:cubicBezTo>
                <a:cubicBezTo>
                  <a:pt x="3973" y="12342"/>
                  <a:pt x="3963" y="12335"/>
                  <a:pt x="3935" y="12369"/>
                </a:cubicBezTo>
                <a:cubicBezTo>
                  <a:pt x="3896" y="12417"/>
                  <a:pt x="3868" y="12475"/>
                  <a:pt x="3851" y="12533"/>
                </a:cubicBezTo>
                <a:cubicBezTo>
                  <a:pt x="3828" y="12611"/>
                  <a:pt x="3812" y="12689"/>
                  <a:pt x="3808" y="12770"/>
                </a:cubicBezTo>
                <a:cubicBezTo>
                  <a:pt x="3805" y="12825"/>
                  <a:pt x="3805" y="12908"/>
                  <a:pt x="3856" y="12939"/>
                </a:cubicBezTo>
                <a:cubicBezTo>
                  <a:pt x="3895" y="12963"/>
                  <a:pt x="3935" y="12916"/>
                  <a:pt x="3961" y="12891"/>
                </a:cubicBezTo>
                <a:cubicBezTo>
                  <a:pt x="4019" y="12835"/>
                  <a:pt x="4070" y="12764"/>
                  <a:pt x="4114" y="12696"/>
                </a:cubicBezTo>
                <a:cubicBezTo>
                  <a:pt x="4158" y="12628"/>
                  <a:pt x="4197" y="12556"/>
                  <a:pt x="4230" y="12485"/>
                </a:cubicBezTo>
              </a:path>
              <a:path w="2674" h="1525">
                <a:moveTo>
                  <a:pt x="4288" y="12343"/>
                </a:moveTo>
                <a:cubicBezTo>
                  <a:pt x="4302" y="12367"/>
                  <a:pt x="4317" y="12392"/>
                  <a:pt x="4330" y="12417"/>
                </a:cubicBezTo>
                <a:cubicBezTo>
                  <a:pt x="4354" y="12462"/>
                  <a:pt x="4377" y="12508"/>
                  <a:pt x="4399" y="12554"/>
                </a:cubicBezTo>
                <a:cubicBezTo>
                  <a:pt x="4418" y="12594"/>
                  <a:pt x="4439" y="12632"/>
                  <a:pt x="4462" y="12670"/>
                </a:cubicBezTo>
                <a:cubicBezTo>
                  <a:pt x="4471" y="12685"/>
                  <a:pt x="4476" y="12686"/>
                  <a:pt x="4488" y="12696"/>
                </a:cubicBezTo>
                <a:cubicBezTo>
                  <a:pt x="4485" y="12683"/>
                  <a:pt x="4487" y="12667"/>
                  <a:pt x="4483" y="12654"/>
                </a:cubicBezTo>
                <a:cubicBezTo>
                  <a:pt x="4471" y="12609"/>
                  <a:pt x="4452" y="12568"/>
                  <a:pt x="4441" y="12522"/>
                </a:cubicBezTo>
                <a:cubicBezTo>
                  <a:pt x="4427" y="12463"/>
                  <a:pt x="4414" y="12394"/>
                  <a:pt x="4415" y="12333"/>
                </a:cubicBezTo>
                <a:cubicBezTo>
                  <a:pt x="4416" y="12283"/>
                  <a:pt x="4425" y="12218"/>
                  <a:pt x="4451" y="12174"/>
                </a:cubicBezTo>
                <a:cubicBezTo>
                  <a:pt x="4476" y="12132"/>
                  <a:pt x="4512" y="12109"/>
                  <a:pt x="4552" y="12085"/>
                </a:cubicBezTo>
                <a:cubicBezTo>
                  <a:pt x="4584" y="12066"/>
                  <a:pt x="4614" y="12052"/>
                  <a:pt x="4652" y="12048"/>
                </a:cubicBezTo>
                <a:cubicBezTo>
                  <a:pt x="4683" y="12045"/>
                  <a:pt x="4685" y="12049"/>
                  <a:pt x="4710" y="12048"/>
                </a:cubicBezTo>
                <a:cubicBezTo>
                  <a:pt x="4705" y="12037"/>
                  <a:pt x="4703" y="12033"/>
                  <a:pt x="4715" y="12043"/>
                </a:cubicBezTo>
              </a:path>
              <a:path w="2674" h="1525">
                <a:moveTo>
                  <a:pt x="4942" y="12190"/>
                </a:moveTo>
                <a:cubicBezTo>
                  <a:pt x="4969" y="12177"/>
                  <a:pt x="4981" y="12177"/>
                  <a:pt x="5000" y="12143"/>
                </a:cubicBezTo>
                <a:cubicBezTo>
                  <a:pt x="5018" y="12111"/>
                  <a:pt x="5034" y="12083"/>
                  <a:pt x="5047" y="12048"/>
                </a:cubicBezTo>
                <a:cubicBezTo>
                  <a:pt x="5060" y="12011"/>
                  <a:pt x="5080" y="11960"/>
                  <a:pt x="5068" y="11921"/>
                </a:cubicBezTo>
                <a:cubicBezTo>
                  <a:pt x="5063" y="11906"/>
                  <a:pt x="5034" y="11863"/>
                  <a:pt x="5016" y="11863"/>
                </a:cubicBezTo>
                <a:cubicBezTo>
                  <a:pt x="4975" y="11862"/>
                  <a:pt x="4947" y="11917"/>
                  <a:pt x="4931" y="11948"/>
                </a:cubicBezTo>
                <a:cubicBezTo>
                  <a:pt x="4895" y="12016"/>
                  <a:pt x="4882" y="12104"/>
                  <a:pt x="4878" y="12180"/>
                </a:cubicBezTo>
                <a:cubicBezTo>
                  <a:pt x="4874" y="12264"/>
                  <a:pt x="4872" y="12360"/>
                  <a:pt x="4889" y="12443"/>
                </a:cubicBezTo>
                <a:cubicBezTo>
                  <a:pt x="4899" y="12491"/>
                  <a:pt x="4922" y="12566"/>
                  <a:pt x="4973" y="12586"/>
                </a:cubicBezTo>
                <a:cubicBezTo>
                  <a:pt x="5030" y="12608"/>
                  <a:pt x="5108" y="12562"/>
                  <a:pt x="5153" y="12533"/>
                </a:cubicBezTo>
                <a:cubicBezTo>
                  <a:pt x="5254" y="12469"/>
                  <a:pt x="5344" y="12381"/>
                  <a:pt x="5427" y="12296"/>
                </a:cubicBezTo>
                <a:cubicBezTo>
                  <a:pt x="5510" y="12211"/>
                  <a:pt x="5560" y="12119"/>
                  <a:pt x="5606" y="120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76240" y="4692600"/>
            <a:ext cx="3915000" cy="1562040"/>
          </a:xfrm>
          <a:custGeom>
            <a:avLst/>
            <a:gdLst/>
            <a:ahLst/>
            <a:rect l="l" t="t" r="r" b="b"/>
            <a:pathLst>
              <a:path w="10871" h="4339">
                <a:moveTo>
                  <a:pt x="4936" y="13171"/>
                </a:moveTo>
                <a:cubicBezTo>
                  <a:pt x="4947" y="13209"/>
                  <a:pt x="4965" y="13243"/>
                  <a:pt x="4979" y="13281"/>
                </a:cubicBezTo>
                <a:cubicBezTo>
                  <a:pt x="5021" y="13395"/>
                  <a:pt x="5069" y="13499"/>
                  <a:pt x="5121" y="13608"/>
                </a:cubicBezTo>
                <a:cubicBezTo>
                  <a:pt x="5173" y="13716"/>
                  <a:pt x="5222" y="13827"/>
                  <a:pt x="5284" y="13930"/>
                </a:cubicBezTo>
                <a:cubicBezTo>
                  <a:pt x="5331" y="14008"/>
                  <a:pt x="5381" y="14091"/>
                  <a:pt x="5437" y="14162"/>
                </a:cubicBezTo>
                <a:cubicBezTo>
                  <a:pt x="5468" y="14201"/>
                  <a:pt x="5501" y="14240"/>
                  <a:pt x="5532" y="14277"/>
                </a:cubicBezTo>
                <a:cubicBezTo>
                  <a:pt x="5544" y="14292"/>
                  <a:pt x="5551" y="14298"/>
                  <a:pt x="5564" y="14309"/>
                </a:cubicBezTo>
                <a:cubicBezTo>
                  <a:pt x="5562" y="14296"/>
                  <a:pt x="5561" y="14284"/>
                  <a:pt x="5558" y="14267"/>
                </a:cubicBezTo>
                <a:cubicBezTo>
                  <a:pt x="5567" y="14250"/>
                  <a:pt x="5567" y="14240"/>
                  <a:pt x="5553" y="14225"/>
                </a:cubicBezTo>
              </a:path>
              <a:path w="10871" h="4339">
                <a:moveTo>
                  <a:pt x="5511" y="13039"/>
                </a:moveTo>
                <a:cubicBezTo>
                  <a:pt x="5512" y="13050"/>
                  <a:pt x="5509" y="13049"/>
                  <a:pt x="5511" y="13060"/>
                </a:cubicBezTo>
                <a:cubicBezTo>
                  <a:pt x="5519" y="13097"/>
                  <a:pt x="5526" y="13135"/>
                  <a:pt x="5537" y="13171"/>
                </a:cubicBezTo>
                <a:cubicBezTo>
                  <a:pt x="5561" y="13248"/>
                  <a:pt x="5595" y="13319"/>
                  <a:pt x="5627" y="13392"/>
                </a:cubicBezTo>
                <a:cubicBezTo>
                  <a:pt x="5686" y="13527"/>
                  <a:pt x="5746" y="13656"/>
                  <a:pt x="5822" y="13782"/>
                </a:cubicBezTo>
                <a:cubicBezTo>
                  <a:pt x="5873" y="13867"/>
                  <a:pt x="5917" y="13954"/>
                  <a:pt x="5975" y="14035"/>
                </a:cubicBezTo>
                <a:cubicBezTo>
                  <a:pt x="6003" y="14074"/>
                  <a:pt x="6028" y="14114"/>
                  <a:pt x="6059" y="14151"/>
                </a:cubicBezTo>
                <a:cubicBezTo>
                  <a:pt x="6063" y="14155"/>
                  <a:pt x="6066" y="14158"/>
                  <a:pt x="6070" y="14162"/>
                </a:cubicBezTo>
                <a:cubicBezTo>
                  <a:pt x="6062" y="14150"/>
                  <a:pt x="6049" y="14128"/>
                  <a:pt x="6038" y="14114"/>
                </a:cubicBezTo>
                <a:cubicBezTo>
                  <a:pt x="6021" y="14097"/>
                  <a:pt x="6017" y="14095"/>
                  <a:pt x="6012" y="14082"/>
                </a:cubicBezTo>
              </a:path>
              <a:path w="10871" h="4339">
                <a:moveTo>
                  <a:pt x="5611" y="14309"/>
                </a:moveTo>
                <a:cubicBezTo>
                  <a:pt x="5606" y="14315"/>
                  <a:pt x="5611" y="14308"/>
                  <a:pt x="5606" y="14314"/>
                </a:cubicBezTo>
                <a:cubicBezTo>
                  <a:pt x="5595" y="14328"/>
                  <a:pt x="5586" y="14344"/>
                  <a:pt x="5574" y="14357"/>
                </a:cubicBezTo>
                <a:cubicBezTo>
                  <a:pt x="5545" y="14389"/>
                  <a:pt x="5526" y="14423"/>
                  <a:pt x="5500" y="14457"/>
                </a:cubicBezTo>
                <a:cubicBezTo>
                  <a:pt x="5462" y="14506"/>
                  <a:pt x="5422" y="14554"/>
                  <a:pt x="5379" y="14599"/>
                </a:cubicBezTo>
                <a:cubicBezTo>
                  <a:pt x="5341" y="14639"/>
                  <a:pt x="5294" y="14667"/>
                  <a:pt x="5253" y="14704"/>
                </a:cubicBezTo>
                <a:cubicBezTo>
                  <a:pt x="5233" y="14722"/>
                  <a:pt x="5220" y="14731"/>
                  <a:pt x="5195" y="14741"/>
                </a:cubicBezTo>
                <a:cubicBezTo>
                  <a:pt x="5204" y="14735"/>
                  <a:pt x="5216" y="14724"/>
                  <a:pt x="5221" y="14720"/>
                </a:cubicBezTo>
                <a:cubicBezTo>
                  <a:pt x="5245" y="14702"/>
                  <a:pt x="5274" y="14695"/>
                  <a:pt x="5300" y="14689"/>
                </a:cubicBezTo>
              </a:path>
              <a:path w="10871" h="4339">
                <a:moveTo>
                  <a:pt x="6244" y="14104"/>
                </a:moveTo>
                <a:cubicBezTo>
                  <a:pt x="6247" y="14095"/>
                  <a:pt x="6248" y="14092"/>
                  <a:pt x="6260" y="14077"/>
                </a:cubicBezTo>
                <a:cubicBezTo>
                  <a:pt x="6306" y="14022"/>
                  <a:pt x="6362" y="13968"/>
                  <a:pt x="6412" y="13919"/>
                </a:cubicBezTo>
                <a:cubicBezTo>
                  <a:pt x="6465" y="13866"/>
                  <a:pt x="6518" y="13813"/>
                  <a:pt x="6571" y="13761"/>
                </a:cubicBezTo>
                <a:cubicBezTo>
                  <a:pt x="6604" y="13729"/>
                  <a:pt x="6642" y="13682"/>
                  <a:pt x="6681" y="13656"/>
                </a:cubicBezTo>
                <a:cubicBezTo>
                  <a:pt x="6693" y="13651"/>
                  <a:pt x="6699" y="13653"/>
                  <a:pt x="6697" y="13645"/>
                </a:cubicBezTo>
                <a:cubicBezTo>
                  <a:pt x="6693" y="13651"/>
                  <a:pt x="6678" y="13697"/>
                  <a:pt x="6676" y="13698"/>
                </a:cubicBezTo>
                <a:cubicBezTo>
                  <a:pt x="6660" y="13698"/>
                  <a:pt x="6655" y="13698"/>
                  <a:pt x="6665" y="13713"/>
                </a:cubicBezTo>
              </a:path>
              <a:path w="10871" h="4339">
                <a:moveTo>
                  <a:pt x="6697" y="13735"/>
                </a:moveTo>
                <a:cubicBezTo>
                  <a:pt x="6675" y="13773"/>
                  <a:pt x="6664" y="13809"/>
                  <a:pt x="6650" y="13851"/>
                </a:cubicBezTo>
                <a:cubicBezTo>
                  <a:pt x="6623" y="13935"/>
                  <a:pt x="6616" y="14023"/>
                  <a:pt x="6597" y="14109"/>
                </a:cubicBezTo>
                <a:cubicBezTo>
                  <a:pt x="6570" y="14234"/>
                  <a:pt x="6545" y="14359"/>
                  <a:pt x="6518" y="14483"/>
                </a:cubicBezTo>
                <a:cubicBezTo>
                  <a:pt x="6495" y="14589"/>
                  <a:pt x="6468" y="14695"/>
                  <a:pt x="6439" y="14799"/>
                </a:cubicBezTo>
                <a:cubicBezTo>
                  <a:pt x="6428" y="14837"/>
                  <a:pt x="6443" y="14941"/>
                  <a:pt x="6412" y="14915"/>
                </a:cubicBezTo>
                <a:cubicBezTo>
                  <a:pt x="6407" y="14911"/>
                  <a:pt x="6414" y="14878"/>
                  <a:pt x="6418" y="14863"/>
                </a:cubicBezTo>
              </a:path>
              <a:path w="10871" h="4339">
                <a:moveTo>
                  <a:pt x="5427" y="14731"/>
                </a:moveTo>
                <a:cubicBezTo>
                  <a:pt x="5454" y="14732"/>
                  <a:pt x="5492" y="14727"/>
                  <a:pt x="5527" y="14736"/>
                </a:cubicBezTo>
                <a:cubicBezTo>
                  <a:pt x="5613" y="14758"/>
                  <a:pt x="5700" y="14784"/>
                  <a:pt x="5785" y="14810"/>
                </a:cubicBezTo>
                <a:cubicBezTo>
                  <a:pt x="5912" y="14849"/>
                  <a:pt x="6035" y="14897"/>
                  <a:pt x="6159" y="14942"/>
                </a:cubicBezTo>
                <a:cubicBezTo>
                  <a:pt x="6262" y="14980"/>
                  <a:pt x="6367" y="15011"/>
                  <a:pt x="6470" y="15047"/>
                </a:cubicBezTo>
                <a:cubicBezTo>
                  <a:pt x="6518" y="15064"/>
                  <a:pt x="6563" y="15083"/>
                  <a:pt x="6613" y="15089"/>
                </a:cubicBezTo>
                <a:cubicBezTo>
                  <a:pt x="6626" y="15091"/>
                  <a:pt x="6626" y="15085"/>
                  <a:pt x="6639" y="15084"/>
                </a:cubicBezTo>
                <a:cubicBezTo>
                  <a:pt x="6622" y="15080"/>
                  <a:pt x="6605" y="15072"/>
                  <a:pt x="6592" y="15068"/>
                </a:cubicBezTo>
                <a:cubicBezTo>
                  <a:pt x="6573" y="15063"/>
                  <a:pt x="6560" y="15064"/>
                  <a:pt x="6549" y="15047"/>
                </a:cubicBezTo>
                <a:cubicBezTo>
                  <a:pt x="6533" y="15021"/>
                  <a:pt x="6533" y="14994"/>
                  <a:pt x="6528" y="14963"/>
                </a:cubicBezTo>
              </a:path>
              <a:path w="10871" h="4339">
                <a:moveTo>
                  <a:pt x="7794" y="16665"/>
                </a:moveTo>
                <a:cubicBezTo>
                  <a:pt x="7816" y="16777"/>
                  <a:pt x="7795" y="16874"/>
                  <a:pt x="7883" y="16966"/>
                </a:cubicBezTo>
                <a:cubicBezTo>
                  <a:pt x="8076" y="17168"/>
                  <a:pt x="8331" y="17036"/>
                  <a:pt x="8547" y="16971"/>
                </a:cubicBezTo>
                <a:cubicBezTo>
                  <a:pt x="8701" y="16925"/>
                  <a:pt x="8855" y="16904"/>
                  <a:pt x="9011" y="16871"/>
                </a:cubicBezTo>
                <a:cubicBezTo>
                  <a:pt x="9128" y="16847"/>
                  <a:pt x="9235" y="16825"/>
                  <a:pt x="9354" y="16818"/>
                </a:cubicBezTo>
                <a:cubicBezTo>
                  <a:pt x="9560" y="16805"/>
                  <a:pt x="9770" y="16819"/>
                  <a:pt x="9976" y="16818"/>
                </a:cubicBezTo>
                <a:cubicBezTo>
                  <a:pt x="10070" y="16817"/>
                  <a:pt x="10151" y="16818"/>
                  <a:pt x="10245" y="16808"/>
                </a:cubicBezTo>
                <a:cubicBezTo>
                  <a:pt x="10383" y="16794"/>
                  <a:pt x="10485" y="16798"/>
                  <a:pt x="10619" y="16834"/>
                </a:cubicBezTo>
                <a:cubicBezTo>
                  <a:pt x="10745" y="16868"/>
                  <a:pt x="10872" y="16922"/>
                  <a:pt x="10993" y="16971"/>
                </a:cubicBezTo>
                <a:cubicBezTo>
                  <a:pt x="11222" y="17064"/>
                  <a:pt x="11271" y="17161"/>
                  <a:pt x="11404" y="17324"/>
                </a:cubicBezTo>
                <a:cubicBezTo>
                  <a:pt x="11416" y="17338"/>
                  <a:pt x="11414" y="17370"/>
                  <a:pt x="11415" y="17366"/>
                </a:cubicBezTo>
                <a:cubicBezTo>
                  <a:pt x="11419" y="17348"/>
                  <a:pt x="11395" y="17303"/>
                  <a:pt x="11394" y="17282"/>
                </a:cubicBezTo>
                <a:cubicBezTo>
                  <a:pt x="11392" y="17228"/>
                  <a:pt x="11383" y="17179"/>
                  <a:pt x="11383" y="17124"/>
                </a:cubicBezTo>
                <a:cubicBezTo>
                  <a:pt x="11384" y="17018"/>
                  <a:pt x="11378" y="16850"/>
                  <a:pt x="11478" y="16781"/>
                </a:cubicBezTo>
                <a:cubicBezTo>
                  <a:pt x="11547" y="16733"/>
                  <a:pt x="11666" y="16753"/>
                  <a:pt x="11747" y="16755"/>
                </a:cubicBezTo>
                <a:cubicBezTo>
                  <a:pt x="11939" y="16760"/>
                  <a:pt x="12123" y="16782"/>
                  <a:pt x="12316" y="16771"/>
                </a:cubicBezTo>
                <a:cubicBezTo>
                  <a:pt x="12529" y="16759"/>
                  <a:pt x="12736" y="16818"/>
                  <a:pt x="12944" y="16802"/>
                </a:cubicBezTo>
                <a:cubicBezTo>
                  <a:pt x="12980" y="16799"/>
                  <a:pt x="13013" y="16790"/>
                  <a:pt x="13049" y="16786"/>
                </a:cubicBezTo>
                <a:cubicBezTo>
                  <a:pt x="13128" y="16778"/>
                  <a:pt x="13208" y="16763"/>
                  <a:pt x="13286" y="16755"/>
                </a:cubicBezTo>
                <a:cubicBezTo>
                  <a:pt x="13326" y="16751"/>
                  <a:pt x="13363" y="16751"/>
                  <a:pt x="13402" y="16744"/>
                </a:cubicBezTo>
                <a:cubicBezTo>
                  <a:pt x="13428" y="16740"/>
                  <a:pt x="13451" y="16739"/>
                  <a:pt x="13476" y="16734"/>
                </a:cubicBezTo>
                <a:cubicBezTo>
                  <a:pt x="13570" y="16716"/>
                  <a:pt x="13658" y="16692"/>
                  <a:pt x="13755" y="16686"/>
                </a:cubicBezTo>
                <a:cubicBezTo>
                  <a:pt x="13842" y="16681"/>
                  <a:pt x="13917" y="16694"/>
                  <a:pt x="14003" y="16702"/>
                </a:cubicBezTo>
                <a:cubicBezTo>
                  <a:pt x="14041" y="16705"/>
                  <a:pt x="14076" y="16717"/>
                  <a:pt x="14114" y="16718"/>
                </a:cubicBezTo>
                <a:cubicBezTo>
                  <a:pt x="14209" y="16720"/>
                  <a:pt x="14299" y="16705"/>
                  <a:pt x="14388" y="16686"/>
                </a:cubicBezTo>
                <a:cubicBezTo>
                  <a:pt x="14413" y="16681"/>
                  <a:pt x="14427" y="16665"/>
                  <a:pt x="14451" y="16660"/>
                </a:cubicBezTo>
                <a:cubicBezTo>
                  <a:pt x="14522" y="16646"/>
                  <a:pt x="14587" y="16641"/>
                  <a:pt x="14662" y="16639"/>
                </a:cubicBezTo>
                <a:cubicBezTo>
                  <a:pt x="14861" y="16633"/>
                  <a:pt x="15039" y="16664"/>
                  <a:pt x="15237" y="16634"/>
                </a:cubicBezTo>
                <a:cubicBezTo>
                  <a:pt x="15393" y="16611"/>
                  <a:pt x="15678" y="16580"/>
                  <a:pt x="15759" y="16428"/>
                </a:cubicBezTo>
                <a:cubicBezTo>
                  <a:pt x="15822" y="16309"/>
                  <a:pt x="15794" y="16113"/>
                  <a:pt x="15801" y="15980"/>
                </a:cubicBezTo>
                <a:cubicBezTo>
                  <a:pt x="15802" y="15967"/>
                  <a:pt x="15801" y="15961"/>
                  <a:pt x="15801" y="15948"/>
                </a:cubicBezTo>
                <a:cubicBezTo>
                  <a:pt x="15796" y="15958"/>
                  <a:pt x="15788" y="15958"/>
                  <a:pt x="15785" y="15969"/>
                </a:cubicBezTo>
                <a:cubicBezTo>
                  <a:pt x="15787" y="15969"/>
                  <a:pt x="15788" y="15969"/>
                  <a:pt x="15790" y="15969"/>
                </a:cubicBezTo>
                <a:cubicBezTo>
                  <a:pt x="15792" y="15923"/>
                  <a:pt x="15793" y="15869"/>
                  <a:pt x="15795" y="158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8680" y="6207120"/>
            <a:ext cx="928800" cy="446040"/>
          </a:xfrm>
          <a:custGeom>
            <a:avLst/>
            <a:gdLst/>
            <a:ahLst/>
            <a:rect l="l" t="t" r="r" b="b"/>
            <a:pathLst>
              <a:path w="2578" h="1239">
                <a:moveTo>
                  <a:pt x="10255" y="17672"/>
                </a:moveTo>
                <a:cubicBezTo>
                  <a:pt x="10256" y="17687"/>
                  <a:pt x="10257" y="17711"/>
                  <a:pt x="10261" y="17730"/>
                </a:cubicBezTo>
                <a:cubicBezTo>
                  <a:pt x="10270" y="17774"/>
                  <a:pt x="10283" y="17813"/>
                  <a:pt x="10303" y="17851"/>
                </a:cubicBezTo>
                <a:cubicBezTo>
                  <a:pt x="10299" y="17839"/>
                  <a:pt x="10296" y="17837"/>
                  <a:pt x="10292" y="17825"/>
                </a:cubicBezTo>
                <a:cubicBezTo>
                  <a:pt x="10277" y="17777"/>
                  <a:pt x="10266" y="17729"/>
                  <a:pt x="10245" y="17683"/>
                </a:cubicBezTo>
                <a:cubicBezTo>
                  <a:pt x="10225" y="17639"/>
                  <a:pt x="10201" y="17593"/>
                  <a:pt x="10171" y="17556"/>
                </a:cubicBezTo>
                <a:cubicBezTo>
                  <a:pt x="10140" y="17518"/>
                  <a:pt x="10090" y="17484"/>
                  <a:pt x="10039" y="17503"/>
                </a:cubicBezTo>
                <a:cubicBezTo>
                  <a:pt x="9992" y="17521"/>
                  <a:pt x="9953" y="17665"/>
                  <a:pt x="9944" y="17704"/>
                </a:cubicBezTo>
                <a:cubicBezTo>
                  <a:pt x="9919" y="17808"/>
                  <a:pt x="9913" y="17939"/>
                  <a:pt x="9913" y="18046"/>
                </a:cubicBezTo>
                <a:cubicBezTo>
                  <a:pt x="9913" y="18157"/>
                  <a:pt x="9934" y="18257"/>
                  <a:pt x="9981" y="18357"/>
                </a:cubicBezTo>
                <a:cubicBezTo>
                  <a:pt x="10016" y="18431"/>
                  <a:pt x="10080" y="18468"/>
                  <a:pt x="10160" y="18468"/>
                </a:cubicBezTo>
                <a:cubicBezTo>
                  <a:pt x="10233" y="18468"/>
                  <a:pt x="10318" y="18437"/>
                  <a:pt x="10377" y="18394"/>
                </a:cubicBezTo>
                <a:cubicBezTo>
                  <a:pt x="10413" y="18368"/>
                  <a:pt x="10475" y="18313"/>
                  <a:pt x="10487" y="18268"/>
                </a:cubicBezTo>
                <a:cubicBezTo>
                  <a:pt x="10498" y="18228"/>
                  <a:pt x="10480" y="18190"/>
                  <a:pt x="10461" y="18157"/>
                </a:cubicBezTo>
                <a:cubicBezTo>
                  <a:pt x="10441" y="18123"/>
                  <a:pt x="10413" y="18099"/>
                  <a:pt x="10382" y="18078"/>
                </a:cubicBezTo>
                <a:cubicBezTo>
                  <a:pt x="10355" y="18060"/>
                  <a:pt x="10347" y="18073"/>
                  <a:pt x="10340" y="18073"/>
                </a:cubicBezTo>
                <a:cubicBezTo>
                  <a:pt x="10353" y="18079"/>
                  <a:pt x="10361" y="18091"/>
                  <a:pt x="10377" y="18094"/>
                </a:cubicBezTo>
                <a:cubicBezTo>
                  <a:pt x="10413" y="18102"/>
                  <a:pt x="10441" y="18096"/>
                  <a:pt x="10477" y="18088"/>
                </a:cubicBezTo>
                <a:cubicBezTo>
                  <a:pt x="10522" y="18078"/>
                  <a:pt x="10569" y="18067"/>
                  <a:pt x="10608" y="18046"/>
                </a:cubicBezTo>
                <a:cubicBezTo>
                  <a:pt x="10637" y="18030"/>
                  <a:pt x="10666" y="18017"/>
                  <a:pt x="10688" y="17993"/>
                </a:cubicBezTo>
                <a:cubicBezTo>
                  <a:pt x="10699" y="17981"/>
                  <a:pt x="10683" y="17983"/>
                  <a:pt x="10693" y="17978"/>
                </a:cubicBezTo>
                <a:cubicBezTo>
                  <a:pt x="10709" y="17971"/>
                  <a:pt x="10714" y="17972"/>
                  <a:pt x="10730" y="17967"/>
                </a:cubicBezTo>
                <a:cubicBezTo>
                  <a:pt x="10756" y="17967"/>
                  <a:pt x="10765" y="17967"/>
                  <a:pt x="10777" y="17951"/>
                </a:cubicBezTo>
              </a:path>
              <a:path w="2578" h="1239">
                <a:moveTo>
                  <a:pt x="10909" y="17625"/>
                </a:moveTo>
                <a:cubicBezTo>
                  <a:pt x="10897" y="17618"/>
                  <a:pt x="10900" y="17621"/>
                  <a:pt x="10898" y="17635"/>
                </a:cubicBezTo>
                <a:cubicBezTo>
                  <a:pt x="10892" y="17679"/>
                  <a:pt x="10901" y="17733"/>
                  <a:pt x="10904" y="17777"/>
                </a:cubicBezTo>
                <a:cubicBezTo>
                  <a:pt x="10910" y="17860"/>
                  <a:pt x="10922" y="17942"/>
                  <a:pt x="10930" y="18025"/>
                </a:cubicBezTo>
                <a:cubicBezTo>
                  <a:pt x="10939" y="18116"/>
                  <a:pt x="10955" y="18201"/>
                  <a:pt x="10977" y="18289"/>
                </a:cubicBezTo>
                <a:cubicBezTo>
                  <a:pt x="10980" y="18300"/>
                  <a:pt x="10985" y="18343"/>
                  <a:pt x="10993" y="18352"/>
                </a:cubicBezTo>
                <a:cubicBezTo>
                  <a:pt x="10998" y="18358"/>
                  <a:pt x="11007" y="18358"/>
                  <a:pt x="11014" y="18362"/>
                </a:cubicBezTo>
                <a:cubicBezTo>
                  <a:pt x="11023" y="18368"/>
                  <a:pt x="11044" y="18381"/>
                  <a:pt x="11057" y="18384"/>
                </a:cubicBezTo>
                <a:cubicBezTo>
                  <a:pt x="11073" y="18388"/>
                  <a:pt x="11101" y="18387"/>
                  <a:pt x="11114" y="18378"/>
                </a:cubicBezTo>
                <a:cubicBezTo>
                  <a:pt x="11133" y="18365"/>
                  <a:pt x="11166" y="18344"/>
                  <a:pt x="11183" y="18326"/>
                </a:cubicBezTo>
                <a:cubicBezTo>
                  <a:pt x="11211" y="18297"/>
                  <a:pt x="11241" y="18267"/>
                  <a:pt x="11267" y="18236"/>
                </a:cubicBezTo>
                <a:cubicBezTo>
                  <a:pt x="11296" y="18202"/>
                  <a:pt x="11323" y="18158"/>
                  <a:pt x="11336" y="18115"/>
                </a:cubicBezTo>
                <a:cubicBezTo>
                  <a:pt x="11353" y="18059"/>
                  <a:pt x="11352" y="18008"/>
                  <a:pt x="11341" y="17951"/>
                </a:cubicBezTo>
                <a:cubicBezTo>
                  <a:pt x="11326" y="17870"/>
                  <a:pt x="11288" y="17794"/>
                  <a:pt x="11257" y="17719"/>
                </a:cubicBezTo>
                <a:cubicBezTo>
                  <a:pt x="11239" y="17676"/>
                  <a:pt x="11219" y="17632"/>
                  <a:pt x="11204" y="17588"/>
                </a:cubicBezTo>
                <a:cubicBezTo>
                  <a:pt x="11201" y="17578"/>
                  <a:pt x="11198" y="17570"/>
                  <a:pt x="11194" y="17561"/>
                </a:cubicBezTo>
                <a:cubicBezTo>
                  <a:pt x="11201" y="17563"/>
                  <a:pt x="11198" y="17555"/>
                  <a:pt x="11209" y="17561"/>
                </a:cubicBezTo>
                <a:cubicBezTo>
                  <a:pt x="11228" y="17571"/>
                  <a:pt x="11252" y="17590"/>
                  <a:pt x="11267" y="17603"/>
                </a:cubicBezTo>
                <a:cubicBezTo>
                  <a:pt x="11285" y="17622"/>
                  <a:pt x="11288" y="17628"/>
                  <a:pt x="11304" y="17630"/>
                </a:cubicBezTo>
              </a:path>
              <a:path w="2578" h="1239">
                <a:moveTo>
                  <a:pt x="11705" y="17667"/>
                </a:moveTo>
                <a:cubicBezTo>
                  <a:pt x="11708" y="17674"/>
                  <a:pt x="11705" y="17669"/>
                  <a:pt x="11710" y="17693"/>
                </a:cubicBezTo>
                <a:cubicBezTo>
                  <a:pt x="11718" y="17729"/>
                  <a:pt x="11721" y="17767"/>
                  <a:pt x="11726" y="17804"/>
                </a:cubicBezTo>
                <a:cubicBezTo>
                  <a:pt x="11734" y="17864"/>
                  <a:pt x="11748" y="17923"/>
                  <a:pt x="11758" y="17983"/>
                </a:cubicBezTo>
                <a:cubicBezTo>
                  <a:pt x="11766" y="18031"/>
                  <a:pt x="11779" y="18096"/>
                  <a:pt x="11810" y="18136"/>
                </a:cubicBezTo>
                <a:cubicBezTo>
                  <a:pt x="11825" y="18155"/>
                  <a:pt x="11851" y="18182"/>
                  <a:pt x="11874" y="18189"/>
                </a:cubicBezTo>
                <a:cubicBezTo>
                  <a:pt x="11879" y="18189"/>
                  <a:pt x="11884" y="18189"/>
                  <a:pt x="11889" y="18189"/>
                </a:cubicBezTo>
                <a:cubicBezTo>
                  <a:pt x="11905" y="18167"/>
                  <a:pt x="11897" y="18176"/>
                  <a:pt x="11889" y="18146"/>
                </a:cubicBezTo>
                <a:cubicBezTo>
                  <a:pt x="11889" y="18143"/>
                  <a:pt x="11889" y="18139"/>
                  <a:pt x="11889" y="18136"/>
                </a:cubicBezTo>
              </a:path>
              <a:path w="2578" h="1239">
                <a:moveTo>
                  <a:pt x="11515" y="17788"/>
                </a:moveTo>
                <a:cubicBezTo>
                  <a:pt x="11513" y="17790"/>
                  <a:pt x="11512" y="17791"/>
                  <a:pt x="11510" y="17793"/>
                </a:cubicBezTo>
                <a:cubicBezTo>
                  <a:pt x="11512" y="17780"/>
                  <a:pt x="11499" y="17790"/>
                  <a:pt x="11526" y="17772"/>
                </a:cubicBezTo>
                <a:cubicBezTo>
                  <a:pt x="11570" y="17743"/>
                  <a:pt x="11608" y="17712"/>
                  <a:pt x="11647" y="17677"/>
                </a:cubicBezTo>
                <a:cubicBezTo>
                  <a:pt x="11742" y="17593"/>
                  <a:pt x="11841" y="17516"/>
                  <a:pt x="11937" y="17435"/>
                </a:cubicBezTo>
                <a:cubicBezTo>
                  <a:pt x="12006" y="17377"/>
                  <a:pt x="12072" y="17325"/>
                  <a:pt x="12148" y="17277"/>
                </a:cubicBezTo>
                <a:cubicBezTo>
                  <a:pt x="12181" y="17256"/>
                  <a:pt x="12202" y="17251"/>
                  <a:pt x="12232" y="17245"/>
                </a:cubicBezTo>
                <a:cubicBezTo>
                  <a:pt x="12233" y="17271"/>
                  <a:pt x="12229" y="17287"/>
                  <a:pt x="12227" y="17314"/>
                </a:cubicBezTo>
                <a:cubicBezTo>
                  <a:pt x="12225" y="17340"/>
                  <a:pt x="12221" y="17360"/>
                  <a:pt x="12211" y="17387"/>
                </a:cubicBezTo>
              </a:path>
              <a:path w="2578" h="1239">
                <a:moveTo>
                  <a:pt x="11773" y="18478"/>
                </a:moveTo>
                <a:cubicBezTo>
                  <a:pt x="11810" y="18430"/>
                  <a:pt x="11854" y="18392"/>
                  <a:pt x="11900" y="18352"/>
                </a:cubicBezTo>
                <a:cubicBezTo>
                  <a:pt x="11985" y="18278"/>
                  <a:pt x="12064" y="18199"/>
                  <a:pt x="12153" y="18131"/>
                </a:cubicBezTo>
                <a:cubicBezTo>
                  <a:pt x="12203" y="18092"/>
                  <a:pt x="12256" y="18052"/>
                  <a:pt x="12311" y="18020"/>
                </a:cubicBezTo>
                <a:cubicBezTo>
                  <a:pt x="12340" y="18003"/>
                  <a:pt x="12389" y="17974"/>
                  <a:pt x="12422" y="17972"/>
                </a:cubicBezTo>
                <a:cubicBezTo>
                  <a:pt x="12442" y="17971"/>
                  <a:pt x="12456" y="17963"/>
                  <a:pt x="12464" y="17962"/>
                </a:cubicBezTo>
                <a:cubicBezTo>
                  <a:pt x="12483" y="17967"/>
                  <a:pt x="12490" y="17970"/>
                  <a:pt x="12490" y="17951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14840" y="5902200"/>
            <a:ext cx="2021040" cy="1044720"/>
          </a:xfrm>
          <a:custGeom>
            <a:avLst/>
            <a:gdLst/>
            <a:ahLst/>
            <a:rect l="l" t="t" r="r" b="b"/>
            <a:pathLst>
              <a:path w="5610" h="2900">
                <a:moveTo>
                  <a:pt x="16196" y="16396"/>
                </a:moveTo>
                <a:cubicBezTo>
                  <a:pt x="16196" y="16406"/>
                  <a:pt x="16196" y="16407"/>
                  <a:pt x="16196" y="16417"/>
                </a:cubicBezTo>
                <a:cubicBezTo>
                  <a:pt x="16196" y="16484"/>
                  <a:pt x="16199" y="16548"/>
                  <a:pt x="16212" y="16613"/>
                </a:cubicBezTo>
                <a:cubicBezTo>
                  <a:pt x="16219" y="16649"/>
                  <a:pt x="16229" y="16696"/>
                  <a:pt x="16244" y="16728"/>
                </a:cubicBezTo>
                <a:cubicBezTo>
                  <a:pt x="16252" y="16745"/>
                  <a:pt x="16262" y="16759"/>
                  <a:pt x="16270" y="16771"/>
                </a:cubicBezTo>
                <a:cubicBezTo>
                  <a:pt x="16283" y="16790"/>
                  <a:pt x="16301" y="16808"/>
                  <a:pt x="16317" y="16823"/>
                </a:cubicBezTo>
                <a:cubicBezTo>
                  <a:pt x="16336" y="16841"/>
                  <a:pt x="16355" y="16856"/>
                  <a:pt x="16375" y="16871"/>
                </a:cubicBezTo>
                <a:cubicBezTo>
                  <a:pt x="16411" y="16898"/>
                  <a:pt x="16457" y="16922"/>
                  <a:pt x="16502" y="16929"/>
                </a:cubicBezTo>
                <a:cubicBezTo>
                  <a:pt x="16588" y="16943"/>
                  <a:pt x="16690" y="16927"/>
                  <a:pt x="16776" y="16918"/>
                </a:cubicBezTo>
                <a:cubicBezTo>
                  <a:pt x="16812" y="16914"/>
                  <a:pt x="16856" y="16906"/>
                  <a:pt x="16892" y="16897"/>
                </a:cubicBezTo>
                <a:cubicBezTo>
                  <a:pt x="16913" y="16892"/>
                  <a:pt x="16934" y="16882"/>
                  <a:pt x="16955" y="16876"/>
                </a:cubicBezTo>
                <a:cubicBezTo>
                  <a:pt x="16975" y="16870"/>
                  <a:pt x="16994" y="16865"/>
                  <a:pt x="17013" y="16860"/>
                </a:cubicBezTo>
                <a:cubicBezTo>
                  <a:pt x="17030" y="16856"/>
                  <a:pt x="17044" y="16853"/>
                  <a:pt x="17061" y="16850"/>
                </a:cubicBezTo>
                <a:cubicBezTo>
                  <a:pt x="17080" y="16846"/>
                  <a:pt x="17090" y="16846"/>
                  <a:pt x="17108" y="16844"/>
                </a:cubicBezTo>
                <a:cubicBezTo>
                  <a:pt x="17139" y="16841"/>
                  <a:pt x="17170" y="16838"/>
                  <a:pt x="17203" y="16839"/>
                </a:cubicBezTo>
                <a:cubicBezTo>
                  <a:pt x="17228" y="16840"/>
                  <a:pt x="17252" y="16843"/>
                  <a:pt x="17277" y="16844"/>
                </a:cubicBezTo>
                <a:cubicBezTo>
                  <a:pt x="17327" y="16845"/>
                  <a:pt x="17377" y="16840"/>
                  <a:pt x="17424" y="16855"/>
                </a:cubicBezTo>
                <a:cubicBezTo>
                  <a:pt x="17480" y="16873"/>
                  <a:pt x="17533" y="16904"/>
                  <a:pt x="17588" y="16923"/>
                </a:cubicBezTo>
                <a:cubicBezTo>
                  <a:pt x="17610" y="16930"/>
                  <a:pt x="17634" y="16940"/>
                  <a:pt x="17656" y="16945"/>
                </a:cubicBezTo>
                <a:cubicBezTo>
                  <a:pt x="17678" y="16950"/>
                  <a:pt x="17698" y="16952"/>
                  <a:pt x="17720" y="16955"/>
                </a:cubicBezTo>
                <a:cubicBezTo>
                  <a:pt x="17753" y="16959"/>
                  <a:pt x="17787" y="16963"/>
                  <a:pt x="17820" y="16966"/>
                </a:cubicBezTo>
                <a:cubicBezTo>
                  <a:pt x="17844" y="16968"/>
                  <a:pt x="17870" y="16964"/>
                  <a:pt x="17893" y="16971"/>
                </a:cubicBezTo>
                <a:cubicBezTo>
                  <a:pt x="17912" y="16977"/>
                  <a:pt x="17919" y="16981"/>
                  <a:pt x="17936" y="16992"/>
                </a:cubicBezTo>
                <a:cubicBezTo>
                  <a:pt x="17959" y="17008"/>
                  <a:pt x="17973" y="17025"/>
                  <a:pt x="17988" y="17050"/>
                </a:cubicBezTo>
                <a:cubicBezTo>
                  <a:pt x="18002" y="17075"/>
                  <a:pt x="18003" y="17110"/>
                  <a:pt x="18015" y="17134"/>
                </a:cubicBezTo>
                <a:cubicBezTo>
                  <a:pt x="18020" y="17144"/>
                  <a:pt x="18029" y="17162"/>
                  <a:pt x="18031" y="17166"/>
                </a:cubicBezTo>
                <a:cubicBezTo>
                  <a:pt x="18033" y="17166"/>
                  <a:pt x="18034" y="17166"/>
                  <a:pt x="18036" y="17166"/>
                </a:cubicBezTo>
                <a:cubicBezTo>
                  <a:pt x="18036" y="17165"/>
                  <a:pt x="18032" y="17149"/>
                  <a:pt x="18031" y="17140"/>
                </a:cubicBezTo>
                <a:cubicBezTo>
                  <a:pt x="18027" y="17115"/>
                  <a:pt x="18023" y="17091"/>
                  <a:pt x="18020" y="17066"/>
                </a:cubicBezTo>
                <a:cubicBezTo>
                  <a:pt x="18017" y="17035"/>
                  <a:pt x="18014" y="17022"/>
                  <a:pt x="18015" y="16992"/>
                </a:cubicBezTo>
                <a:cubicBezTo>
                  <a:pt x="18017" y="16949"/>
                  <a:pt x="18028" y="16899"/>
                  <a:pt x="18057" y="16866"/>
                </a:cubicBezTo>
                <a:cubicBezTo>
                  <a:pt x="18066" y="16856"/>
                  <a:pt x="18082" y="16842"/>
                  <a:pt x="18094" y="16834"/>
                </a:cubicBezTo>
                <a:cubicBezTo>
                  <a:pt x="18110" y="16824"/>
                  <a:pt x="18130" y="16819"/>
                  <a:pt x="18147" y="16813"/>
                </a:cubicBezTo>
                <a:cubicBezTo>
                  <a:pt x="18197" y="16796"/>
                  <a:pt x="18248" y="16802"/>
                  <a:pt x="18299" y="16808"/>
                </a:cubicBezTo>
                <a:cubicBezTo>
                  <a:pt x="18334" y="16812"/>
                  <a:pt x="18361" y="16823"/>
                  <a:pt x="18394" y="16834"/>
                </a:cubicBezTo>
                <a:cubicBezTo>
                  <a:pt x="18450" y="16853"/>
                  <a:pt x="18501" y="16886"/>
                  <a:pt x="18558" y="16902"/>
                </a:cubicBezTo>
                <a:cubicBezTo>
                  <a:pt x="18610" y="16917"/>
                  <a:pt x="18670" y="16926"/>
                  <a:pt x="18721" y="16939"/>
                </a:cubicBezTo>
                <a:cubicBezTo>
                  <a:pt x="18746" y="16945"/>
                  <a:pt x="18775" y="16948"/>
                  <a:pt x="18800" y="16955"/>
                </a:cubicBezTo>
                <a:cubicBezTo>
                  <a:pt x="18811" y="16958"/>
                  <a:pt x="18821" y="16963"/>
                  <a:pt x="18832" y="16966"/>
                </a:cubicBezTo>
                <a:cubicBezTo>
                  <a:pt x="18845" y="16970"/>
                  <a:pt x="18856" y="16978"/>
                  <a:pt x="18869" y="16981"/>
                </a:cubicBezTo>
                <a:cubicBezTo>
                  <a:pt x="18889" y="16986"/>
                  <a:pt x="18906" y="16991"/>
                  <a:pt x="18927" y="16992"/>
                </a:cubicBezTo>
                <a:cubicBezTo>
                  <a:pt x="18976" y="16995"/>
                  <a:pt x="19008" y="16984"/>
                  <a:pt x="19053" y="16971"/>
                </a:cubicBezTo>
                <a:cubicBezTo>
                  <a:pt x="19082" y="16963"/>
                  <a:pt x="19109" y="16953"/>
                  <a:pt x="19138" y="16945"/>
                </a:cubicBezTo>
                <a:cubicBezTo>
                  <a:pt x="19194" y="16929"/>
                  <a:pt x="19254" y="16917"/>
                  <a:pt x="19311" y="16913"/>
                </a:cubicBezTo>
                <a:cubicBezTo>
                  <a:pt x="19393" y="16908"/>
                  <a:pt x="19474" y="16912"/>
                  <a:pt x="19554" y="16887"/>
                </a:cubicBezTo>
                <a:cubicBezTo>
                  <a:pt x="19576" y="16880"/>
                  <a:pt x="19614" y="16868"/>
                  <a:pt x="19633" y="16855"/>
                </a:cubicBezTo>
                <a:cubicBezTo>
                  <a:pt x="19656" y="16839"/>
                  <a:pt x="19667" y="16820"/>
                  <a:pt x="19680" y="16797"/>
                </a:cubicBezTo>
                <a:cubicBezTo>
                  <a:pt x="19691" y="16777"/>
                  <a:pt x="19686" y="16764"/>
                  <a:pt x="19691" y="16744"/>
                </a:cubicBezTo>
                <a:cubicBezTo>
                  <a:pt x="19696" y="16727"/>
                  <a:pt x="19700" y="16715"/>
                  <a:pt x="19702" y="16697"/>
                </a:cubicBezTo>
                <a:cubicBezTo>
                  <a:pt x="19705" y="16678"/>
                  <a:pt x="19714" y="16629"/>
                  <a:pt x="19702" y="16613"/>
                </a:cubicBezTo>
                <a:cubicBezTo>
                  <a:pt x="19699" y="16609"/>
                  <a:pt x="19715" y="16630"/>
                  <a:pt x="19707" y="16634"/>
                </a:cubicBezTo>
                <a:cubicBezTo>
                  <a:pt x="19696" y="16644"/>
                  <a:pt x="19692" y="16648"/>
                  <a:pt x="19691" y="16660"/>
                </a:cubicBezTo>
              </a:path>
              <a:path w="5610" h="2900">
                <a:moveTo>
                  <a:pt x="15474" y="17751"/>
                </a:moveTo>
                <a:cubicBezTo>
                  <a:pt x="15449" y="17755"/>
                  <a:pt x="15466" y="17733"/>
                  <a:pt x="15448" y="17751"/>
                </a:cubicBezTo>
                <a:cubicBezTo>
                  <a:pt x="15432" y="17766"/>
                  <a:pt x="15439" y="17776"/>
                  <a:pt x="15437" y="17798"/>
                </a:cubicBezTo>
                <a:cubicBezTo>
                  <a:pt x="15433" y="17844"/>
                  <a:pt x="15443" y="17890"/>
                  <a:pt x="15448" y="17936"/>
                </a:cubicBezTo>
                <a:cubicBezTo>
                  <a:pt x="15456" y="18010"/>
                  <a:pt x="15480" y="18089"/>
                  <a:pt x="15500" y="18162"/>
                </a:cubicBezTo>
                <a:cubicBezTo>
                  <a:pt x="15522" y="18242"/>
                  <a:pt x="15547" y="18321"/>
                  <a:pt x="15574" y="18399"/>
                </a:cubicBezTo>
                <a:cubicBezTo>
                  <a:pt x="15589" y="18442"/>
                  <a:pt x="15612" y="18483"/>
                  <a:pt x="15627" y="18526"/>
                </a:cubicBezTo>
                <a:cubicBezTo>
                  <a:pt x="15627" y="18529"/>
                  <a:pt x="15627" y="18533"/>
                  <a:pt x="15627" y="18536"/>
                </a:cubicBezTo>
                <a:cubicBezTo>
                  <a:pt x="15630" y="18520"/>
                  <a:pt x="15633" y="18489"/>
                  <a:pt x="15627" y="18457"/>
                </a:cubicBezTo>
                <a:cubicBezTo>
                  <a:pt x="15612" y="18381"/>
                  <a:pt x="15583" y="18305"/>
                  <a:pt x="15558" y="18231"/>
                </a:cubicBezTo>
                <a:cubicBezTo>
                  <a:pt x="15524" y="18131"/>
                  <a:pt x="15478" y="18033"/>
                  <a:pt x="15437" y="17936"/>
                </a:cubicBezTo>
                <a:cubicBezTo>
                  <a:pt x="15400" y="17849"/>
                  <a:pt x="15365" y="17763"/>
                  <a:pt x="15337" y="17672"/>
                </a:cubicBezTo>
                <a:cubicBezTo>
                  <a:pt x="15316" y="17604"/>
                  <a:pt x="15312" y="17550"/>
                  <a:pt x="15347" y="17487"/>
                </a:cubicBezTo>
                <a:cubicBezTo>
                  <a:pt x="15384" y="17421"/>
                  <a:pt x="15432" y="17387"/>
                  <a:pt x="15500" y="17356"/>
                </a:cubicBezTo>
                <a:cubicBezTo>
                  <a:pt x="15567" y="17325"/>
                  <a:pt x="15641" y="17309"/>
                  <a:pt x="15711" y="17340"/>
                </a:cubicBezTo>
                <a:cubicBezTo>
                  <a:pt x="15779" y="17370"/>
                  <a:pt x="15817" y="17437"/>
                  <a:pt x="15827" y="17509"/>
                </a:cubicBezTo>
                <a:cubicBezTo>
                  <a:pt x="15839" y="17594"/>
                  <a:pt x="15815" y="17688"/>
                  <a:pt x="15785" y="17767"/>
                </a:cubicBezTo>
                <a:cubicBezTo>
                  <a:pt x="15760" y="17831"/>
                  <a:pt x="15726" y="17904"/>
                  <a:pt x="15674" y="17951"/>
                </a:cubicBezTo>
                <a:cubicBezTo>
                  <a:pt x="15645" y="17977"/>
                  <a:pt x="15618" y="17993"/>
                  <a:pt x="15579" y="17988"/>
                </a:cubicBezTo>
                <a:cubicBezTo>
                  <a:pt x="15557" y="17985"/>
                  <a:pt x="15562" y="17974"/>
                  <a:pt x="15553" y="17967"/>
                </a:cubicBezTo>
                <a:cubicBezTo>
                  <a:pt x="15568" y="17970"/>
                  <a:pt x="15587" y="17971"/>
                  <a:pt x="15606" y="17978"/>
                </a:cubicBezTo>
                <a:cubicBezTo>
                  <a:pt x="15637" y="17989"/>
                  <a:pt x="15665" y="18006"/>
                  <a:pt x="15695" y="18020"/>
                </a:cubicBezTo>
              </a:path>
              <a:path w="5610" h="2900">
                <a:moveTo>
                  <a:pt x="16080" y="18294"/>
                </a:moveTo>
                <a:cubicBezTo>
                  <a:pt x="16104" y="18315"/>
                  <a:pt x="16131" y="18335"/>
                  <a:pt x="16154" y="18357"/>
                </a:cubicBezTo>
                <a:cubicBezTo>
                  <a:pt x="16168" y="18370"/>
                  <a:pt x="16181" y="18386"/>
                  <a:pt x="16196" y="18399"/>
                </a:cubicBezTo>
                <a:cubicBezTo>
                  <a:pt x="16192" y="18383"/>
                  <a:pt x="16192" y="18368"/>
                  <a:pt x="16186" y="18352"/>
                </a:cubicBezTo>
                <a:cubicBezTo>
                  <a:pt x="16171" y="18308"/>
                  <a:pt x="16168" y="18265"/>
                  <a:pt x="16159" y="18220"/>
                </a:cubicBezTo>
                <a:cubicBezTo>
                  <a:pt x="16149" y="18169"/>
                  <a:pt x="16142" y="18114"/>
                  <a:pt x="16154" y="18062"/>
                </a:cubicBezTo>
                <a:cubicBezTo>
                  <a:pt x="16164" y="18018"/>
                  <a:pt x="16182" y="17996"/>
                  <a:pt x="16222" y="17978"/>
                </a:cubicBezTo>
                <a:cubicBezTo>
                  <a:pt x="16268" y="17957"/>
                  <a:pt x="16316" y="17962"/>
                  <a:pt x="16365" y="17957"/>
                </a:cubicBezTo>
                <a:cubicBezTo>
                  <a:pt x="16412" y="17953"/>
                  <a:pt x="16459" y="17947"/>
                  <a:pt x="16507" y="17946"/>
                </a:cubicBezTo>
                <a:cubicBezTo>
                  <a:pt x="16522" y="17946"/>
                  <a:pt x="16551" y="17947"/>
                  <a:pt x="16565" y="17941"/>
                </a:cubicBezTo>
                <a:cubicBezTo>
                  <a:pt x="16565" y="17936"/>
                  <a:pt x="16565" y="17934"/>
                  <a:pt x="16560" y="17936"/>
                </a:cubicBezTo>
                <a:cubicBezTo>
                  <a:pt x="16558" y="17936"/>
                  <a:pt x="16547" y="17933"/>
                  <a:pt x="16539" y="17936"/>
                </a:cubicBezTo>
                <a:cubicBezTo>
                  <a:pt x="16522" y="17943"/>
                  <a:pt x="16501" y="17963"/>
                  <a:pt x="16491" y="17978"/>
                </a:cubicBezTo>
                <a:cubicBezTo>
                  <a:pt x="16447" y="18043"/>
                  <a:pt x="16444" y="18120"/>
                  <a:pt x="16460" y="18194"/>
                </a:cubicBezTo>
                <a:cubicBezTo>
                  <a:pt x="16471" y="18246"/>
                  <a:pt x="16489" y="18294"/>
                  <a:pt x="16528" y="18331"/>
                </a:cubicBezTo>
                <a:cubicBezTo>
                  <a:pt x="16594" y="18394"/>
                  <a:pt x="16677" y="18374"/>
                  <a:pt x="16750" y="18331"/>
                </a:cubicBezTo>
                <a:cubicBezTo>
                  <a:pt x="16803" y="18300"/>
                  <a:pt x="16854" y="18244"/>
                  <a:pt x="16881" y="18189"/>
                </a:cubicBezTo>
                <a:cubicBezTo>
                  <a:pt x="16901" y="18149"/>
                  <a:pt x="16915" y="18086"/>
                  <a:pt x="16887" y="18046"/>
                </a:cubicBezTo>
                <a:cubicBezTo>
                  <a:pt x="16859" y="18006"/>
                  <a:pt x="16821" y="17988"/>
                  <a:pt x="16776" y="17978"/>
                </a:cubicBezTo>
                <a:cubicBezTo>
                  <a:pt x="16740" y="17970"/>
                  <a:pt x="16711" y="17966"/>
                  <a:pt x="16676" y="17972"/>
                </a:cubicBezTo>
                <a:cubicBezTo>
                  <a:pt x="16667" y="17977"/>
                  <a:pt x="16666" y="17979"/>
                  <a:pt x="16660" y="17978"/>
                </a:cubicBezTo>
                <a:cubicBezTo>
                  <a:pt x="16672" y="17983"/>
                  <a:pt x="16692" y="18003"/>
                  <a:pt x="16713" y="17999"/>
                </a:cubicBezTo>
                <a:cubicBezTo>
                  <a:pt x="16745" y="17993"/>
                  <a:pt x="16762" y="17977"/>
                  <a:pt x="16786" y="17957"/>
                </a:cubicBezTo>
              </a:path>
              <a:path w="5610" h="2900">
                <a:moveTo>
                  <a:pt x="16971" y="17377"/>
                </a:moveTo>
                <a:cubicBezTo>
                  <a:pt x="16969" y="17395"/>
                  <a:pt x="16968" y="17407"/>
                  <a:pt x="16971" y="17435"/>
                </a:cubicBezTo>
                <a:cubicBezTo>
                  <a:pt x="16978" y="17503"/>
                  <a:pt x="17007" y="17569"/>
                  <a:pt x="17024" y="17635"/>
                </a:cubicBezTo>
                <a:cubicBezTo>
                  <a:pt x="17049" y="17735"/>
                  <a:pt x="17072" y="17835"/>
                  <a:pt x="17113" y="17930"/>
                </a:cubicBezTo>
                <a:cubicBezTo>
                  <a:pt x="17146" y="18005"/>
                  <a:pt x="17186" y="18098"/>
                  <a:pt x="17245" y="18157"/>
                </a:cubicBezTo>
                <a:cubicBezTo>
                  <a:pt x="17261" y="18173"/>
                  <a:pt x="17304" y="18176"/>
                  <a:pt x="17282" y="18183"/>
                </a:cubicBezTo>
                <a:cubicBezTo>
                  <a:pt x="17296" y="18197"/>
                  <a:pt x="17296" y="18199"/>
                  <a:pt x="17266" y="18183"/>
                </a:cubicBezTo>
              </a:path>
              <a:path w="5610" h="2900">
                <a:moveTo>
                  <a:pt x="16955" y="18115"/>
                </a:moveTo>
                <a:cubicBezTo>
                  <a:pt x="16982" y="18088"/>
                  <a:pt x="17008" y="18079"/>
                  <a:pt x="17045" y="18067"/>
                </a:cubicBezTo>
                <a:cubicBezTo>
                  <a:pt x="17096" y="18050"/>
                  <a:pt x="17149" y="18031"/>
                  <a:pt x="17198" y="18009"/>
                </a:cubicBezTo>
                <a:cubicBezTo>
                  <a:pt x="17252" y="17985"/>
                  <a:pt x="17307" y="17961"/>
                  <a:pt x="17361" y="17936"/>
                </a:cubicBezTo>
                <a:cubicBezTo>
                  <a:pt x="17388" y="17923"/>
                  <a:pt x="17415" y="17910"/>
                  <a:pt x="17440" y="17893"/>
                </a:cubicBezTo>
                <a:cubicBezTo>
                  <a:pt x="17442" y="17891"/>
                  <a:pt x="17443" y="17890"/>
                  <a:pt x="17445" y="17888"/>
                </a:cubicBezTo>
                <a:cubicBezTo>
                  <a:pt x="17440" y="17894"/>
                  <a:pt x="17430" y="17904"/>
                  <a:pt x="17424" y="17914"/>
                </a:cubicBezTo>
                <a:cubicBezTo>
                  <a:pt x="17408" y="17941"/>
                  <a:pt x="17390" y="17977"/>
                  <a:pt x="17387" y="18009"/>
                </a:cubicBezTo>
                <a:cubicBezTo>
                  <a:pt x="17382" y="18059"/>
                  <a:pt x="17397" y="18112"/>
                  <a:pt x="17419" y="18157"/>
                </a:cubicBezTo>
                <a:cubicBezTo>
                  <a:pt x="17436" y="18192"/>
                  <a:pt x="17466" y="18232"/>
                  <a:pt x="17509" y="18236"/>
                </a:cubicBezTo>
                <a:cubicBezTo>
                  <a:pt x="17563" y="18241"/>
                  <a:pt x="17621" y="18192"/>
                  <a:pt x="17656" y="18157"/>
                </a:cubicBezTo>
                <a:cubicBezTo>
                  <a:pt x="17701" y="18112"/>
                  <a:pt x="17737" y="18054"/>
                  <a:pt x="17751" y="17993"/>
                </a:cubicBezTo>
                <a:cubicBezTo>
                  <a:pt x="17762" y="17944"/>
                  <a:pt x="17747" y="17908"/>
                  <a:pt x="17704" y="17883"/>
                </a:cubicBezTo>
                <a:cubicBezTo>
                  <a:pt x="17664" y="17859"/>
                  <a:pt x="17628" y="17877"/>
                  <a:pt x="17588" y="17883"/>
                </a:cubicBezTo>
                <a:cubicBezTo>
                  <a:pt x="17574" y="17885"/>
                  <a:pt x="17540" y="17893"/>
                  <a:pt x="17551" y="17878"/>
                </a:cubicBezTo>
                <a:cubicBezTo>
                  <a:pt x="17556" y="17876"/>
                  <a:pt x="17562" y="17874"/>
                  <a:pt x="17567" y="17872"/>
                </a:cubicBezTo>
              </a:path>
              <a:path w="5610" h="2900">
                <a:moveTo>
                  <a:pt x="18015" y="17361"/>
                </a:moveTo>
                <a:cubicBezTo>
                  <a:pt x="18001" y="17408"/>
                  <a:pt x="18015" y="17448"/>
                  <a:pt x="18025" y="17498"/>
                </a:cubicBezTo>
                <a:cubicBezTo>
                  <a:pt x="18049" y="17620"/>
                  <a:pt x="18098" y="17733"/>
                  <a:pt x="18136" y="17851"/>
                </a:cubicBezTo>
                <a:cubicBezTo>
                  <a:pt x="18164" y="17940"/>
                  <a:pt x="18192" y="18024"/>
                  <a:pt x="18231" y="18109"/>
                </a:cubicBezTo>
                <a:cubicBezTo>
                  <a:pt x="18249" y="18148"/>
                  <a:pt x="18267" y="18178"/>
                  <a:pt x="18294" y="18210"/>
                </a:cubicBezTo>
              </a:path>
              <a:path w="5610" h="2900">
                <a:moveTo>
                  <a:pt x="17936" y="18083"/>
                </a:moveTo>
                <a:cubicBezTo>
                  <a:pt x="17972" y="18047"/>
                  <a:pt x="18010" y="18024"/>
                  <a:pt x="18057" y="18004"/>
                </a:cubicBezTo>
                <a:cubicBezTo>
                  <a:pt x="18107" y="17983"/>
                  <a:pt x="18158" y="17975"/>
                  <a:pt x="18210" y="17962"/>
                </a:cubicBezTo>
                <a:cubicBezTo>
                  <a:pt x="18258" y="17950"/>
                  <a:pt x="18292" y="17941"/>
                  <a:pt x="18342" y="17941"/>
                </a:cubicBezTo>
                <a:cubicBezTo>
                  <a:pt x="18390" y="17941"/>
                  <a:pt x="18424" y="17944"/>
                  <a:pt x="18468" y="17941"/>
                </a:cubicBezTo>
              </a:path>
              <a:path w="5610" h="2900">
                <a:moveTo>
                  <a:pt x="18531" y="17899"/>
                </a:moveTo>
                <a:cubicBezTo>
                  <a:pt x="18537" y="17912"/>
                  <a:pt x="18536" y="17918"/>
                  <a:pt x="18542" y="17941"/>
                </a:cubicBezTo>
                <a:cubicBezTo>
                  <a:pt x="18552" y="17979"/>
                  <a:pt x="18576" y="18012"/>
                  <a:pt x="18595" y="18046"/>
                </a:cubicBezTo>
                <a:cubicBezTo>
                  <a:pt x="18617" y="18086"/>
                  <a:pt x="18644" y="18136"/>
                  <a:pt x="18679" y="18167"/>
                </a:cubicBezTo>
                <a:cubicBezTo>
                  <a:pt x="18706" y="18181"/>
                  <a:pt x="18718" y="18190"/>
                  <a:pt x="18732" y="18210"/>
                </a:cubicBezTo>
              </a:path>
              <a:path w="5610" h="2900">
                <a:moveTo>
                  <a:pt x="18784" y="18041"/>
                </a:moveTo>
                <a:cubicBezTo>
                  <a:pt x="18778" y="18130"/>
                  <a:pt x="18776" y="18220"/>
                  <a:pt x="18779" y="18310"/>
                </a:cubicBezTo>
                <a:cubicBezTo>
                  <a:pt x="18782" y="18406"/>
                  <a:pt x="18784" y="18510"/>
                  <a:pt x="18800" y="18605"/>
                </a:cubicBezTo>
                <a:cubicBezTo>
                  <a:pt x="18813" y="18661"/>
                  <a:pt x="18818" y="18671"/>
                  <a:pt x="18816" y="18705"/>
                </a:cubicBezTo>
              </a:path>
              <a:path w="5610" h="2900">
                <a:moveTo>
                  <a:pt x="19032" y="18273"/>
                </a:moveTo>
                <a:cubicBezTo>
                  <a:pt x="19045" y="18357"/>
                  <a:pt x="19073" y="18433"/>
                  <a:pt x="19095" y="18515"/>
                </a:cubicBezTo>
                <a:cubicBezTo>
                  <a:pt x="19114" y="18586"/>
                  <a:pt x="19137" y="18655"/>
                  <a:pt x="19159" y="18726"/>
                </a:cubicBezTo>
                <a:cubicBezTo>
                  <a:pt x="19168" y="18755"/>
                  <a:pt x="19170" y="18763"/>
                  <a:pt x="19180" y="18779"/>
                </a:cubicBezTo>
                <a:cubicBezTo>
                  <a:pt x="19183" y="18760"/>
                  <a:pt x="19185" y="18756"/>
                  <a:pt x="19180" y="18737"/>
                </a:cubicBezTo>
                <a:cubicBezTo>
                  <a:pt x="19162" y="18666"/>
                  <a:pt x="19143" y="18596"/>
                  <a:pt x="19122" y="18526"/>
                </a:cubicBezTo>
                <a:cubicBezTo>
                  <a:pt x="19089" y="18416"/>
                  <a:pt x="19061" y="18308"/>
                  <a:pt x="19043" y="18194"/>
                </a:cubicBezTo>
                <a:cubicBezTo>
                  <a:pt x="19030" y="18111"/>
                  <a:pt x="19020" y="18018"/>
                  <a:pt x="19043" y="17936"/>
                </a:cubicBezTo>
                <a:cubicBezTo>
                  <a:pt x="19055" y="17892"/>
                  <a:pt x="19087" y="17848"/>
                  <a:pt x="19138" y="17856"/>
                </a:cubicBezTo>
                <a:cubicBezTo>
                  <a:pt x="19180" y="17863"/>
                  <a:pt x="19214" y="17905"/>
                  <a:pt x="19232" y="17941"/>
                </a:cubicBezTo>
                <a:cubicBezTo>
                  <a:pt x="19262" y="18001"/>
                  <a:pt x="19261" y="18079"/>
                  <a:pt x="19238" y="18141"/>
                </a:cubicBezTo>
                <a:cubicBezTo>
                  <a:pt x="19223" y="18182"/>
                  <a:pt x="19190" y="18232"/>
                  <a:pt x="19143" y="18241"/>
                </a:cubicBezTo>
                <a:cubicBezTo>
                  <a:pt x="19116" y="18246"/>
                  <a:pt x="19092" y="18246"/>
                  <a:pt x="19069" y="18231"/>
                </a:cubicBezTo>
                <a:cubicBezTo>
                  <a:pt x="19049" y="18218"/>
                  <a:pt x="19064" y="18206"/>
                  <a:pt x="19064" y="18204"/>
                </a:cubicBezTo>
              </a:path>
              <a:path w="5610" h="2900">
                <a:moveTo>
                  <a:pt x="19422" y="18062"/>
                </a:moveTo>
                <a:cubicBezTo>
                  <a:pt x="19427" y="18104"/>
                  <a:pt x="19439" y="18138"/>
                  <a:pt x="19449" y="18178"/>
                </a:cubicBezTo>
                <a:cubicBezTo>
                  <a:pt x="19457" y="18210"/>
                  <a:pt x="19446" y="18242"/>
                  <a:pt x="19470" y="18268"/>
                </a:cubicBezTo>
                <a:cubicBezTo>
                  <a:pt x="19488" y="18286"/>
                  <a:pt x="19494" y="18297"/>
                  <a:pt x="19496" y="18273"/>
                </a:cubicBezTo>
              </a:path>
              <a:path w="5610" h="2900">
                <a:moveTo>
                  <a:pt x="19359" y="17593"/>
                </a:moveTo>
                <a:cubicBezTo>
                  <a:pt x="19365" y="17604"/>
                  <a:pt x="19367" y="17609"/>
                  <a:pt x="19375" y="17614"/>
                </a:cubicBezTo>
              </a:path>
              <a:path w="5610" h="2900">
                <a:moveTo>
                  <a:pt x="19680" y="17862"/>
                </a:moveTo>
                <a:cubicBezTo>
                  <a:pt x="19676" y="17896"/>
                  <a:pt x="19684" y="17938"/>
                  <a:pt x="19691" y="17972"/>
                </a:cubicBezTo>
                <a:cubicBezTo>
                  <a:pt x="19702" y="18025"/>
                  <a:pt x="19713" y="18094"/>
                  <a:pt x="19733" y="18141"/>
                </a:cubicBezTo>
                <a:cubicBezTo>
                  <a:pt x="19743" y="18165"/>
                  <a:pt x="19755" y="18177"/>
                  <a:pt x="19760" y="18204"/>
                </a:cubicBezTo>
                <a:cubicBezTo>
                  <a:pt x="19760" y="18206"/>
                  <a:pt x="19760" y="18208"/>
                  <a:pt x="19760" y="18210"/>
                </a:cubicBezTo>
                <a:cubicBezTo>
                  <a:pt x="19773" y="18188"/>
                  <a:pt x="19765" y="18221"/>
                  <a:pt x="19760" y="18189"/>
                </a:cubicBezTo>
                <a:cubicBezTo>
                  <a:pt x="19755" y="18154"/>
                  <a:pt x="19755" y="18119"/>
                  <a:pt x="19749" y="18083"/>
                </a:cubicBezTo>
                <a:cubicBezTo>
                  <a:pt x="19740" y="18029"/>
                  <a:pt x="19736" y="17969"/>
                  <a:pt x="19733" y="17914"/>
                </a:cubicBezTo>
                <a:cubicBezTo>
                  <a:pt x="19731" y="17873"/>
                  <a:pt x="19741" y="17829"/>
                  <a:pt x="19760" y="17793"/>
                </a:cubicBezTo>
                <a:cubicBezTo>
                  <a:pt x="19775" y="17763"/>
                  <a:pt x="19803" y="17768"/>
                  <a:pt x="19828" y="17783"/>
                </a:cubicBezTo>
                <a:cubicBezTo>
                  <a:pt x="19871" y="17807"/>
                  <a:pt x="19896" y="17851"/>
                  <a:pt x="19918" y="17893"/>
                </a:cubicBezTo>
                <a:cubicBezTo>
                  <a:pt x="19946" y="17947"/>
                  <a:pt x="19959" y="18005"/>
                  <a:pt x="19991" y="18057"/>
                </a:cubicBezTo>
                <a:cubicBezTo>
                  <a:pt x="20010" y="18088"/>
                  <a:pt x="20035" y="18126"/>
                  <a:pt x="20060" y="18152"/>
                </a:cubicBezTo>
                <a:cubicBezTo>
                  <a:pt x="20072" y="18165"/>
                  <a:pt x="20104" y="18166"/>
                  <a:pt x="20118" y="18152"/>
                </a:cubicBezTo>
                <a:cubicBezTo>
                  <a:pt x="20145" y="18123"/>
                  <a:pt x="20156" y="18085"/>
                  <a:pt x="20176" y="18062"/>
                </a:cubicBezTo>
                <a:cubicBezTo>
                  <a:pt x="20185" y="18057"/>
                  <a:pt x="20193" y="18051"/>
                  <a:pt x="20202" y="18046"/>
                </a:cubicBezTo>
              </a:path>
              <a:path w="5610" h="2900">
                <a:moveTo>
                  <a:pt x="20382" y="17920"/>
                </a:moveTo>
                <a:cubicBezTo>
                  <a:pt x="20387" y="17938"/>
                  <a:pt x="20395" y="17958"/>
                  <a:pt x="20403" y="17978"/>
                </a:cubicBezTo>
                <a:cubicBezTo>
                  <a:pt x="20404" y="17982"/>
                  <a:pt x="20412" y="18019"/>
                  <a:pt x="20413" y="18020"/>
                </a:cubicBezTo>
                <a:cubicBezTo>
                  <a:pt x="20421" y="18027"/>
                  <a:pt x="20415" y="18003"/>
                  <a:pt x="20424" y="18009"/>
                </a:cubicBezTo>
                <a:cubicBezTo>
                  <a:pt x="20417" y="17989"/>
                  <a:pt x="20412" y="17967"/>
                  <a:pt x="20403" y="17946"/>
                </a:cubicBezTo>
                <a:cubicBezTo>
                  <a:pt x="20386" y="17906"/>
                  <a:pt x="20370" y="17879"/>
                  <a:pt x="20339" y="17851"/>
                </a:cubicBezTo>
                <a:cubicBezTo>
                  <a:pt x="20309" y="17823"/>
                  <a:pt x="20273" y="17793"/>
                  <a:pt x="20234" y="17820"/>
                </a:cubicBezTo>
                <a:cubicBezTo>
                  <a:pt x="20205" y="17840"/>
                  <a:pt x="20208" y="17873"/>
                  <a:pt x="20202" y="17904"/>
                </a:cubicBezTo>
                <a:cubicBezTo>
                  <a:pt x="20193" y="17954"/>
                  <a:pt x="20203" y="18014"/>
                  <a:pt x="20218" y="18062"/>
                </a:cubicBezTo>
                <a:cubicBezTo>
                  <a:pt x="20234" y="18112"/>
                  <a:pt x="20267" y="18154"/>
                  <a:pt x="20318" y="18173"/>
                </a:cubicBezTo>
                <a:cubicBezTo>
                  <a:pt x="20382" y="18197"/>
                  <a:pt x="20431" y="18176"/>
                  <a:pt x="20482" y="18141"/>
                </a:cubicBezTo>
                <a:cubicBezTo>
                  <a:pt x="20524" y="18112"/>
                  <a:pt x="20569" y="18075"/>
                  <a:pt x="20571" y="18020"/>
                </a:cubicBezTo>
                <a:cubicBezTo>
                  <a:pt x="20572" y="17982"/>
                  <a:pt x="20572" y="17961"/>
                  <a:pt x="20550" y="17930"/>
                </a:cubicBezTo>
                <a:cubicBezTo>
                  <a:pt x="20539" y="17919"/>
                  <a:pt x="20534" y="17914"/>
                  <a:pt x="20524" y="17909"/>
                </a:cubicBezTo>
                <a:cubicBezTo>
                  <a:pt x="20520" y="17925"/>
                  <a:pt x="20505" y="17930"/>
                  <a:pt x="20508" y="17957"/>
                </a:cubicBezTo>
                <a:cubicBezTo>
                  <a:pt x="20516" y="18017"/>
                  <a:pt x="20562" y="18079"/>
                  <a:pt x="20592" y="18131"/>
                </a:cubicBezTo>
                <a:cubicBezTo>
                  <a:pt x="20662" y="18251"/>
                  <a:pt x="20726" y="18372"/>
                  <a:pt x="20782" y="18499"/>
                </a:cubicBezTo>
                <a:cubicBezTo>
                  <a:pt x="20844" y="18638"/>
                  <a:pt x="20896" y="18774"/>
                  <a:pt x="20914" y="18926"/>
                </a:cubicBezTo>
                <a:cubicBezTo>
                  <a:pt x="20925" y="19023"/>
                  <a:pt x="20928" y="19135"/>
                  <a:pt x="20888" y="19227"/>
                </a:cubicBezTo>
                <a:cubicBezTo>
                  <a:pt x="20845" y="19327"/>
                  <a:pt x="20752" y="19297"/>
                  <a:pt x="20693" y="19232"/>
                </a:cubicBezTo>
                <a:cubicBezTo>
                  <a:pt x="20589" y="19119"/>
                  <a:pt x="20557" y="18966"/>
                  <a:pt x="20561" y="18816"/>
                </a:cubicBezTo>
                <a:cubicBezTo>
                  <a:pt x="20565" y="18677"/>
                  <a:pt x="20616" y="18567"/>
                  <a:pt x="20671" y="18442"/>
                </a:cubicBezTo>
                <a:cubicBezTo>
                  <a:pt x="20733" y="18300"/>
                  <a:pt x="20805" y="18160"/>
                  <a:pt x="20872" y="18020"/>
                </a:cubicBezTo>
                <a:cubicBezTo>
                  <a:pt x="20891" y="17983"/>
                  <a:pt x="20911" y="17946"/>
                  <a:pt x="20930" y="17909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54840" y="1838160"/>
            <a:ext cx="255600" cy="954360"/>
          </a:xfrm>
          <a:custGeom>
            <a:avLst/>
            <a:gdLst/>
            <a:ahLst/>
            <a:rect l="l" t="t" r="r" b="b"/>
            <a:pathLst>
              <a:path w="708" h="2651">
                <a:moveTo>
                  <a:pt x="19319" y="5190"/>
                </a:moveTo>
                <a:cubicBezTo>
                  <a:pt x="19329" y="5185"/>
                  <a:pt x="19337" y="5175"/>
                  <a:pt x="19351" y="5169"/>
                </a:cubicBezTo>
                <a:cubicBezTo>
                  <a:pt x="19386" y="5154"/>
                  <a:pt x="19420" y="5144"/>
                  <a:pt x="19456" y="5132"/>
                </a:cubicBezTo>
                <a:cubicBezTo>
                  <a:pt x="19486" y="5122"/>
                  <a:pt x="19510" y="5116"/>
                  <a:pt x="19541" y="5111"/>
                </a:cubicBezTo>
                <a:cubicBezTo>
                  <a:pt x="19570" y="5107"/>
                  <a:pt x="19607" y="5099"/>
                  <a:pt x="19636" y="5111"/>
                </a:cubicBezTo>
                <a:cubicBezTo>
                  <a:pt x="19661" y="5122"/>
                  <a:pt x="19688" y="5154"/>
                  <a:pt x="19704" y="5175"/>
                </a:cubicBezTo>
                <a:cubicBezTo>
                  <a:pt x="19726" y="5205"/>
                  <a:pt x="19746" y="5247"/>
                  <a:pt x="19762" y="5280"/>
                </a:cubicBezTo>
                <a:cubicBezTo>
                  <a:pt x="19781" y="5319"/>
                  <a:pt x="19801" y="5365"/>
                  <a:pt x="19815" y="5406"/>
                </a:cubicBezTo>
                <a:cubicBezTo>
                  <a:pt x="19829" y="5447"/>
                  <a:pt x="19838" y="5493"/>
                  <a:pt x="19841" y="5538"/>
                </a:cubicBezTo>
                <a:cubicBezTo>
                  <a:pt x="19847" y="5620"/>
                  <a:pt x="19843" y="5716"/>
                  <a:pt x="19826" y="5796"/>
                </a:cubicBezTo>
                <a:cubicBezTo>
                  <a:pt x="19813" y="5856"/>
                  <a:pt x="19790" y="5915"/>
                  <a:pt x="19778" y="5975"/>
                </a:cubicBezTo>
                <a:cubicBezTo>
                  <a:pt x="19766" y="6032"/>
                  <a:pt x="19755" y="6092"/>
                  <a:pt x="19752" y="6149"/>
                </a:cubicBezTo>
                <a:cubicBezTo>
                  <a:pt x="19750" y="6186"/>
                  <a:pt x="19747" y="6234"/>
                  <a:pt x="19757" y="6270"/>
                </a:cubicBezTo>
                <a:cubicBezTo>
                  <a:pt x="19762" y="6287"/>
                  <a:pt x="19773" y="6308"/>
                  <a:pt x="19783" y="6323"/>
                </a:cubicBezTo>
                <a:cubicBezTo>
                  <a:pt x="19794" y="6339"/>
                  <a:pt x="19818" y="6348"/>
                  <a:pt x="19826" y="6365"/>
                </a:cubicBezTo>
                <a:cubicBezTo>
                  <a:pt x="19827" y="6368"/>
                  <a:pt x="19841" y="6380"/>
                  <a:pt x="19841" y="6381"/>
                </a:cubicBezTo>
                <a:cubicBezTo>
                  <a:pt x="19844" y="6394"/>
                  <a:pt x="19836" y="6401"/>
                  <a:pt x="19836" y="6413"/>
                </a:cubicBezTo>
                <a:cubicBezTo>
                  <a:pt x="19836" y="6426"/>
                  <a:pt x="19828" y="6442"/>
                  <a:pt x="19826" y="6455"/>
                </a:cubicBezTo>
                <a:cubicBezTo>
                  <a:pt x="19823" y="6479"/>
                  <a:pt x="19814" y="6499"/>
                  <a:pt x="19815" y="6523"/>
                </a:cubicBezTo>
                <a:cubicBezTo>
                  <a:pt x="19816" y="6547"/>
                  <a:pt x="19821" y="6578"/>
                  <a:pt x="19826" y="6602"/>
                </a:cubicBezTo>
                <a:cubicBezTo>
                  <a:pt x="19832" y="6633"/>
                  <a:pt x="19849" y="6667"/>
                  <a:pt x="19862" y="6697"/>
                </a:cubicBezTo>
                <a:cubicBezTo>
                  <a:pt x="19877" y="6731"/>
                  <a:pt x="19893" y="6764"/>
                  <a:pt x="19910" y="6797"/>
                </a:cubicBezTo>
                <a:cubicBezTo>
                  <a:pt x="19932" y="6840"/>
                  <a:pt x="19946" y="6879"/>
                  <a:pt x="19963" y="6924"/>
                </a:cubicBezTo>
                <a:cubicBezTo>
                  <a:pt x="19986" y="6985"/>
                  <a:pt x="20004" y="7043"/>
                  <a:pt x="20015" y="7108"/>
                </a:cubicBezTo>
                <a:cubicBezTo>
                  <a:pt x="20031" y="7201"/>
                  <a:pt x="20037" y="7306"/>
                  <a:pt x="20010" y="7398"/>
                </a:cubicBezTo>
                <a:cubicBezTo>
                  <a:pt x="19989" y="7469"/>
                  <a:pt x="19949" y="7529"/>
                  <a:pt x="19894" y="7577"/>
                </a:cubicBezTo>
                <a:cubicBezTo>
                  <a:pt x="19839" y="7625"/>
                  <a:pt x="19776" y="7654"/>
                  <a:pt x="19710" y="7683"/>
                </a:cubicBezTo>
                <a:cubicBezTo>
                  <a:pt x="19654" y="7708"/>
                  <a:pt x="19595" y="7721"/>
                  <a:pt x="19536" y="7735"/>
                </a:cubicBezTo>
                <a:cubicBezTo>
                  <a:pt x="19508" y="7741"/>
                  <a:pt x="19479" y="7746"/>
                  <a:pt x="19451" y="7751"/>
                </a:cubicBezTo>
                <a:cubicBezTo>
                  <a:pt x="19452" y="7751"/>
                  <a:pt x="19464" y="7749"/>
                  <a:pt x="19472" y="7751"/>
                </a:cubicBezTo>
                <a:cubicBezTo>
                  <a:pt x="19479" y="7753"/>
                  <a:pt x="19476" y="7755"/>
                  <a:pt x="19483" y="7756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26280" y="2130480"/>
            <a:ext cx="1754280" cy="411120"/>
          </a:xfrm>
          <a:custGeom>
            <a:avLst/>
            <a:gdLst/>
            <a:ahLst/>
            <a:rect l="l" t="t" r="r" b="b"/>
            <a:pathLst>
              <a:path w="4873" h="1145">
                <a:moveTo>
                  <a:pt x="20435" y="6386"/>
                </a:moveTo>
                <a:cubicBezTo>
                  <a:pt x="20433" y="6379"/>
                  <a:pt x="20436" y="6372"/>
                  <a:pt x="20419" y="6355"/>
                </a:cubicBezTo>
                <a:cubicBezTo>
                  <a:pt x="20419" y="6355"/>
                  <a:pt x="20420" y="6351"/>
                  <a:pt x="20419" y="6371"/>
                </a:cubicBezTo>
                <a:cubicBezTo>
                  <a:pt x="20417" y="6399"/>
                  <a:pt x="20412" y="6430"/>
                  <a:pt x="20414" y="6460"/>
                </a:cubicBezTo>
                <a:cubicBezTo>
                  <a:pt x="20419" y="6529"/>
                  <a:pt x="20426" y="6597"/>
                  <a:pt x="20435" y="6666"/>
                </a:cubicBezTo>
                <a:cubicBezTo>
                  <a:pt x="20444" y="6736"/>
                  <a:pt x="20460" y="6802"/>
                  <a:pt x="20472" y="6871"/>
                </a:cubicBezTo>
                <a:cubicBezTo>
                  <a:pt x="20480" y="6917"/>
                  <a:pt x="20491" y="6959"/>
                  <a:pt x="20504" y="7003"/>
                </a:cubicBezTo>
                <a:cubicBezTo>
                  <a:pt x="20510" y="7024"/>
                  <a:pt x="20516" y="7041"/>
                  <a:pt x="20525" y="7061"/>
                </a:cubicBezTo>
                <a:cubicBezTo>
                  <a:pt x="20515" y="7039"/>
                  <a:pt x="20518" y="7018"/>
                  <a:pt x="20509" y="6987"/>
                </a:cubicBezTo>
                <a:cubicBezTo>
                  <a:pt x="20505" y="6977"/>
                  <a:pt x="20502" y="6966"/>
                  <a:pt x="20498" y="6956"/>
                </a:cubicBezTo>
              </a:path>
              <a:path w="4873" h="1145">
                <a:moveTo>
                  <a:pt x="20082" y="6402"/>
                </a:moveTo>
                <a:cubicBezTo>
                  <a:pt x="20078" y="6399"/>
                  <a:pt x="20075" y="6395"/>
                  <a:pt x="20071" y="6392"/>
                </a:cubicBezTo>
                <a:cubicBezTo>
                  <a:pt x="20083" y="6392"/>
                  <a:pt x="20072" y="6408"/>
                  <a:pt x="20087" y="6392"/>
                </a:cubicBezTo>
                <a:cubicBezTo>
                  <a:pt x="20097" y="6382"/>
                  <a:pt x="20121" y="6355"/>
                  <a:pt x="20140" y="6344"/>
                </a:cubicBezTo>
                <a:cubicBezTo>
                  <a:pt x="20186" y="6317"/>
                  <a:pt x="20228" y="6282"/>
                  <a:pt x="20272" y="6249"/>
                </a:cubicBezTo>
                <a:cubicBezTo>
                  <a:pt x="20335" y="6202"/>
                  <a:pt x="20403" y="6155"/>
                  <a:pt x="20472" y="6118"/>
                </a:cubicBezTo>
                <a:cubicBezTo>
                  <a:pt x="20520" y="6092"/>
                  <a:pt x="20590" y="6060"/>
                  <a:pt x="20646" y="6075"/>
                </a:cubicBezTo>
                <a:cubicBezTo>
                  <a:pt x="20706" y="6091"/>
                  <a:pt x="20740" y="6169"/>
                  <a:pt x="20751" y="6223"/>
                </a:cubicBezTo>
                <a:cubicBezTo>
                  <a:pt x="20764" y="6285"/>
                  <a:pt x="20760" y="6362"/>
                  <a:pt x="20746" y="6423"/>
                </a:cubicBezTo>
                <a:cubicBezTo>
                  <a:pt x="20729" y="6496"/>
                  <a:pt x="20692" y="6569"/>
                  <a:pt x="20641" y="6624"/>
                </a:cubicBezTo>
                <a:cubicBezTo>
                  <a:pt x="20602" y="6667"/>
                  <a:pt x="20564" y="6673"/>
                  <a:pt x="20514" y="6692"/>
                </a:cubicBezTo>
                <a:cubicBezTo>
                  <a:pt x="20485" y="6703"/>
                  <a:pt x="20452" y="6713"/>
                  <a:pt x="20425" y="6718"/>
                </a:cubicBezTo>
                <a:cubicBezTo>
                  <a:pt x="20416" y="6720"/>
                  <a:pt x="20418" y="6717"/>
                  <a:pt x="20409" y="6718"/>
                </a:cubicBezTo>
                <a:cubicBezTo>
                  <a:pt x="20444" y="6721"/>
                  <a:pt x="20476" y="6721"/>
                  <a:pt x="20509" y="6729"/>
                </a:cubicBezTo>
                <a:cubicBezTo>
                  <a:pt x="20552" y="6739"/>
                  <a:pt x="20591" y="6768"/>
                  <a:pt x="20630" y="6787"/>
                </a:cubicBezTo>
                <a:cubicBezTo>
                  <a:pt x="20668" y="6806"/>
                  <a:pt x="20709" y="6826"/>
                  <a:pt x="20741" y="6855"/>
                </a:cubicBezTo>
                <a:cubicBezTo>
                  <a:pt x="20769" y="6880"/>
                  <a:pt x="20795" y="6908"/>
                  <a:pt x="20820" y="6935"/>
                </a:cubicBezTo>
                <a:cubicBezTo>
                  <a:pt x="20838" y="6954"/>
                  <a:pt x="20858" y="6967"/>
                  <a:pt x="20878" y="6982"/>
                </a:cubicBezTo>
                <a:cubicBezTo>
                  <a:pt x="20887" y="6989"/>
                  <a:pt x="20896" y="6993"/>
                  <a:pt x="20904" y="6998"/>
                </a:cubicBezTo>
                <a:cubicBezTo>
                  <a:pt x="20905" y="6986"/>
                  <a:pt x="20897" y="6979"/>
                  <a:pt x="20904" y="6956"/>
                </a:cubicBezTo>
                <a:cubicBezTo>
                  <a:pt x="20906" y="6952"/>
                  <a:pt x="20908" y="6949"/>
                  <a:pt x="20910" y="6945"/>
                </a:cubicBezTo>
              </a:path>
              <a:path w="4873" h="1145">
                <a:moveTo>
                  <a:pt x="20983" y="6776"/>
                </a:moveTo>
                <a:cubicBezTo>
                  <a:pt x="20990" y="6774"/>
                  <a:pt x="21012" y="6771"/>
                  <a:pt x="21026" y="6771"/>
                </a:cubicBezTo>
                <a:cubicBezTo>
                  <a:pt x="21050" y="6771"/>
                  <a:pt x="21070" y="6761"/>
                  <a:pt x="21094" y="6755"/>
                </a:cubicBezTo>
                <a:cubicBezTo>
                  <a:pt x="21122" y="6748"/>
                  <a:pt x="21140" y="6731"/>
                  <a:pt x="21157" y="6708"/>
                </a:cubicBezTo>
                <a:cubicBezTo>
                  <a:pt x="21174" y="6685"/>
                  <a:pt x="21172" y="6668"/>
                  <a:pt x="21163" y="6645"/>
                </a:cubicBezTo>
                <a:cubicBezTo>
                  <a:pt x="21154" y="6621"/>
                  <a:pt x="21133" y="6601"/>
                  <a:pt x="21105" y="6602"/>
                </a:cubicBezTo>
                <a:cubicBezTo>
                  <a:pt x="21071" y="6603"/>
                  <a:pt x="21034" y="6621"/>
                  <a:pt x="21010" y="6645"/>
                </a:cubicBezTo>
                <a:cubicBezTo>
                  <a:pt x="20981" y="6674"/>
                  <a:pt x="20958" y="6720"/>
                  <a:pt x="20952" y="6761"/>
                </a:cubicBezTo>
                <a:cubicBezTo>
                  <a:pt x="20945" y="6807"/>
                  <a:pt x="20956" y="6841"/>
                  <a:pt x="20973" y="6882"/>
                </a:cubicBezTo>
                <a:cubicBezTo>
                  <a:pt x="20989" y="6921"/>
                  <a:pt x="21014" y="6944"/>
                  <a:pt x="21052" y="6961"/>
                </a:cubicBezTo>
                <a:cubicBezTo>
                  <a:pt x="21086" y="6976"/>
                  <a:pt x="21121" y="6983"/>
                  <a:pt x="21157" y="6971"/>
                </a:cubicBezTo>
                <a:cubicBezTo>
                  <a:pt x="21190" y="6960"/>
                  <a:pt x="21208" y="6945"/>
                  <a:pt x="21236" y="6929"/>
                </a:cubicBezTo>
                <a:cubicBezTo>
                  <a:pt x="21264" y="6919"/>
                  <a:pt x="21273" y="6915"/>
                  <a:pt x="21279" y="6892"/>
                </a:cubicBezTo>
              </a:path>
              <a:path w="4873" h="1145">
                <a:moveTo>
                  <a:pt x="21511" y="6534"/>
                </a:moveTo>
                <a:cubicBezTo>
                  <a:pt x="21502" y="6541"/>
                  <a:pt x="21497" y="6548"/>
                  <a:pt x="21489" y="6560"/>
                </a:cubicBezTo>
                <a:cubicBezTo>
                  <a:pt x="21473" y="6585"/>
                  <a:pt x="21456" y="6599"/>
                  <a:pt x="21437" y="6618"/>
                </a:cubicBezTo>
                <a:cubicBezTo>
                  <a:pt x="21414" y="6642"/>
                  <a:pt x="21393" y="6665"/>
                  <a:pt x="21368" y="6687"/>
                </a:cubicBezTo>
                <a:cubicBezTo>
                  <a:pt x="21352" y="6702"/>
                  <a:pt x="21328" y="6718"/>
                  <a:pt x="21315" y="6734"/>
                </a:cubicBezTo>
                <a:cubicBezTo>
                  <a:pt x="21311" y="6743"/>
                  <a:pt x="21310" y="6746"/>
                  <a:pt x="21305" y="6750"/>
                </a:cubicBezTo>
                <a:cubicBezTo>
                  <a:pt x="21314" y="6752"/>
                  <a:pt x="21308" y="6755"/>
                  <a:pt x="21326" y="6750"/>
                </a:cubicBezTo>
                <a:cubicBezTo>
                  <a:pt x="21352" y="6743"/>
                  <a:pt x="21378" y="6743"/>
                  <a:pt x="21405" y="6739"/>
                </a:cubicBezTo>
                <a:cubicBezTo>
                  <a:pt x="21446" y="6733"/>
                  <a:pt x="21483" y="6734"/>
                  <a:pt x="21521" y="6755"/>
                </a:cubicBezTo>
                <a:cubicBezTo>
                  <a:pt x="21544" y="6768"/>
                  <a:pt x="21569" y="6788"/>
                  <a:pt x="21579" y="6813"/>
                </a:cubicBezTo>
                <a:cubicBezTo>
                  <a:pt x="21591" y="6843"/>
                  <a:pt x="21592" y="6878"/>
                  <a:pt x="21579" y="6908"/>
                </a:cubicBezTo>
                <a:cubicBezTo>
                  <a:pt x="21563" y="6945"/>
                  <a:pt x="21528" y="6984"/>
                  <a:pt x="21495" y="7008"/>
                </a:cubicBezTo>
                <a:cubicBezTo>
                  <a:pt x="21465" y="7030"/>
                  <a:pt x="21433" y="7046"/>
                  <a:pt x="21395" y="7050"/>
                </a:cubicBezTo>
                <a:cubicBezTo>
                  <a:pt x="21373" y="7052"/>
                  <a:pt x="21353" y="7048"/>
                  <a:pt x="21337" y="7035"/>
                </a:cubicBezTo>
                <a:cubicBezTo>
                  <a:pt x="21313" y="7015"/>
                  <a:pt x="21346" y="6999"/>
                  <a:pt x="21358" y="6982"/>
                </a:cubicBezTo>
              </a:path>
              <a:path w="4873" h="1145">
                <a:moveTo>
                  <a:pt x="21753" y="6687"/>
                </a:moveTo>
                <a:cubicBezTo>
                  <a:pt x="21766" y="6700"/>
                  <a:pt x="21767" y="6705"/>
                  <a:pt x="21785" y="6713"/>
                </a:cubicBezTo>
                <a:cubicBezTo>
                  <a:pt x="21795" y="6717"/>
                  <a:pt x="21821" y="6725"/>
                  <a:pt x="21832" y="6724"/>
                </a:cubicBezTo>
                <a:cubicBezTo>
                  <a:pt x="21847" y="6723"/>
                  <a:pt x="21878" y="6714"/>
                  <a:pt x="21890" y="6703"/>
                </a:cubicBezTo>
                <a:cubicBezTo>
                  <a:pt x="21898" y="6695"/>
                  <a:pt x="21915" y="6673"/>
                  <a:pt x="21911" y="6660"/>
                </a:cubicBezTo>
                <a:cubicBezTo>
                  <a:pt x="21907" y="6649"/>
                  <a:pt x="21874" y="6633"/>
                  <a:pt x="21864" y="6629"/>
                </a:cubicBezTo>
                <a:cubicBezTo>
                  <a:pt x="21832" y="6618"/>
                  <a:pt x="21801" y="6618"/>
                  <a:pt x="21769" y="6629"/>
                </a:cubicBezTo>
                <a:cubicBezTo>
                  <a:pt x="21738" y="6640"/>
                  <a:pt x="21714" y="6660"/>
                  <a:pt x="21695" y="6687"/>
                </a:cubicBezTo>
                <a:cubicBezTo>
                  <a:pt x="21675" y="6715"/>
                  <a:pt x="21658" y="6757"/>
                  <a:pt x="21663" y="6792"/>
                </a:cubicBezTo>
                <a:cubicBezTo>
                  <a:pt x="21668" y="6828"/>
                  <a:pt x="21691" y="6872"/>
                  <a:pt x="21716" y="6898"/>
                </a:cubicBezTo>
                <a:cubicBezTo>
                  <a:pt x="21750" y="6934"/>
                  <a:pt x="21796" y="6944"/>
                  <a:pt x="21843" y="6945"/>
                </a:cubicBezTo>
                <a:cubicBezTo>
                  <a:pt x="21908" y="6947"/>
                  <a:pt x="21946" y="6926"/>
                  <a:pt x="22001" y="6898"/>
                </a:cubicBezTo>
                <a:cubicBezTo>
                  <a:pt x="22037" y="6880"/>
                  <a:pt x="22088" y="6846"/>
                  <a:pt x="22106" y="6808"/>
                </a:cubicBezTo>
                <a:cubicBezTo>
                  <a:pt x="22108" y="6797"/>
                  <a:pt x="22110" y="6787"/>
                  <a:pt x="22112" y="6776"/>
                </a:cubicBezTo>
              </a:path>
              <a:path w="4873" h="1145">
                <a:moveTo>
                  <a:pt x="22280" y="6555"/>
                </a:moveTo>
                <a:cubicBezTo>
                  <a:pt x="22279" y="6560"/>
                  <a:pt x="22272" y="6580"/>
                  <a:pt x="22270" y="6592"/>
                </a:cubicBezTo>
                <a:cubicBezTo>
                  <a:pt x="22263" y="6629"/>
                  <a:pt x="22249" y="6662"/>
                  <a:pt x="22238" y="6697"/>
                </a:cubicBezTo>
                <a:cubicBezTo>
                  <a:pt x="22224" y="6742"/>
                  <a:pt x="22207" y="6784"/>
                  <a:pt x="22191" y="6829"/>
                </a:cubicBezTo>
                <a:cubicBezTo>
                  <a:pt x="22179" y="6863"/>
                  <a:pt x="22165" y="6893"/>
                  <a:pt x="22164" y="6929"/>
                </a:cubicBezTo>
                <a:cubicBezTo>
                  <a:pt x="22163" y="6949"/>
                  <a:pt x="22178" y="6963"/>
                  <a:pt x="22201" y="6956"/>
                </a:cubicBezTo>
                <a:cubicBezTo>
                  <a:pt x="22246" y="6943"/>
                  <a:pt x="22284" y="6908"/>
                  <a:pt x="22317" y="6877"/>
                </a:cubicBezTo>
                <a:cubicBezTo>
                  <a:pt x="22362" y="6834"/>
                  <a:pt x="22396" y="6792"/>
                  <a:pt x="22428" y="6739"/>
                </a:cubicBezTo>
                <a:cubicBezTo>
                  <a:pt x="22441" y="6718"/>
                  <a:pt x="22459" y="6682"/>
                  <a:pt x="22449" y="6655"/>
                </a:cubicBezTo>
                <a:cubicBezTo>
                  <a:pt x="22445" y="6644"/>
                  <a:pt x="22437" y="6644"/>
                  <a:pt x="22433" y="6639"/>
                </a:cubicBezTo>
                <a:cubicBezTo>
                  <a:pt x="22426" y="6647"/>
                  <a:pt x="22417" y="6643"/>
                  <a:pt x="22417" y="6660"/>
                </a:cubicBezTo>
                <a:cubicBezTo>
                  <a:pt x="22417" y="6681"/>
                  <a:pt x="22428" y="6703"/>
                  <a:pt x="22433" y="6724"/>
                </a:cubicBezTo>
                <a:cubicBezTo>
                  <a:pt x="22444" y="6769"/>
                  <a:pt x="22475" y="6801"/>
                  <a:pt x="22507" y="6834"/>
                </a:cubicBezTo>
                <a:cubicBezTo>
                  <a:pt x="22529" y="6856"/>
                  <a:pt x="22573" y="6886"/>
                  <a:pt x="22607" y="6882"/>
                </a:cubicBezTo>
                <a:cubicBezTo>
                  <a:pt x="22649" y="6877"/>
                  <a:pt x="22691" y="6848"/>
                  <a:pt x="22723" y="6824"/>
                </a:cubicBezTo>
                <a:cubicBezTo>
                  <a:pt x="22753" y="6801"/>
                  <a:pt x="22773" y="6756"/>
                  <a:pt x="22792" y="6724"/>
                </a:cubicBezTo>
              </a:path>
              <a:path w="4873" h="1145">
                <a:moveTo>
                  <a:pt x="22781" y="6645"/>
                </a:moveTo>
                <a:cubicBezTo>
                  <a:pt x="22778" y="6641"/>
                  <a:pt x="22774" y="6638"/>
                  <a:pt x="22771" y="6634"/>
                </a:cubicBezTo>
                <a:cubicBezTo>
                  <a:pt x="22795" y="6645"/>
                  <a:pt x="22796" y="6640"/>
                  <a:pt x="22818" y="6666"/>
                </a:cubicBezTo>
                <a:cubicBezTo>
                  <a:pt x="22844" y="6697"/>
                  <a:pt x="22871" y="6745"/>
                  <a:pt x="22886" y="6782"/>
                </a:cubicBezTo>
                <a:cubicBezTo>
                  <a:pt x="22905" y="6826"/>
                  <a:pt x="22926" y="6868"/>
                  <a:pt x="22944" y="6913"/>
                </a:cubicBezTo>
                <a:cubicBezTo>
                  <a:pt x="22954" y="6939"/>
                  <a:pt x="22969" y="6969"/>
                  <a:pt x="22976" y="6993"/>
                </a:cubicBezTo>
                <a:cubicBezTo>
                  <a:pt x="22976" y="6998"/>
                  <a:pt x="22976" y="7000"/>
                  <a:pt x="22976" y="7003"/>
                </a:cubicBezTo>
                <a:cubicBezTo>
                  <a:pt x="22968" y="6992"/>
                  <a:pt x="22957" y="6977"/>
                  <a:pt x="22950" y="6961"/>
                </a:cubicBezTo>
                <a:cubicBezTo>
                  <a:pt x="22931" y="6918"/>
                  <a:pt x="22915" y="6874"/>
                  <a:pt x="22902" y="6829"/>
                </a:cubicBezTo>
                <a:cubicBezTo>
                  <a:pt x="22888" y="6781"/>
                  <a:pt x="22879" y="6739"/>
                  <a:pt x="22892" y="6692"/>
                </a:cubicBezTo>
                <a:cubicBezTo>
                  <a:pt x="22899" y="6665"/>
                  <a:pt x="22914" y="6659"/>
                  <a:pt x="22939" y="6655"/>
                </a:cubicBezTo>
                <a:cubicBezTo>
                  <a:pt x="22983" y="6647"/>
                  <a:pt x="23027" y="6651"/>
                  <a:pt x="23071" y="6645"/>
                </a:cubicBezTo>
                <a:cubicBezTo>
                  <a:pt x="23096" y="6642"/>
                  <a:pt x="23150" y="6638"/>
                  <a:pt x="23166" y="6624"/>
                </a:cubicBezTo>
                <a:cubicBezTo>
                  <a:pt x="23177" y="6615"/>
                  <a:pt x="23190" y="6580"/>
                  <a:pt x="23198" y="6571"/>
                </a:cubicBezTo>
              </a:path>
              <a:path w="4873" h="1145">
                <a:moveTo>
                  <a:pt x="23424" y="6481"/>
                </a:moveTo>
                <a:cubicBezTo>
                  <a:pt x="23421" y="6486"/>
                  <a:pt x="23419" y="6498"/>
                  <a:pt x="23414" y="6508"/>
                </a:cubicBezTo>
                <a:cubicBezTo>
                  <a:pt x="23412" y="6511"/>
                  <a:pt x="23378" y="6560"/>
                  <a:pt x="23371" y="6566"/>
                </a:cubicBezTo>
                <a:cubicBezTo>
                  <a:pt x="23338" y="6597"/>
                  <a:pt x="23310" y="6632"/>
                  <a:pt x="23277" y="6666"/>
                </a:cubicBezTo>
                <a:cubicBezTo>
                  <a:pt x="23242" y="6703"/>
                  <a:pt x="23210" y="6736"/>
                  <a:pt x="23187" y="6782"/>
                </a:cubicBezTo>
                <a:cubicBezTo>
                  <a:pt x="23172" y="6813"/>
                  <a:pt x="23161" y="6846"/>
                  <a:pt x="23182" y="6877"/>
                </a:cubicBezTo>
                <a:cubicBezTo>
                  <a:pt x="23203" y="6908"/>
                  <a:pt x="23265" y="6913"/>
                  <a:pt x="23298" y="6913"/>
                </a:cubicBezTo>
                <a:cubicBezTo>
                  <a:pt x="23370" y="6912"/>
                  <a:pt x="23457" y="6891"/>
                  <a:pt x="23524" y="6866"/>
                </a:cubicBezTo>
                <a:cubicBezTo>
                  <a:pt x="23586" y="6843"/>
                  <a:pt x="23652" y="6815"/>
                  <a:pt x="23709" y="6782"/>
                </a:cubicBezTo>
                <a:cubicBezTo>
                  <a:pt x="23720" y="6775"/>
                  <a:pt x="23758" y="6747"/>
                  <a:pt x="23767" y="6745"/>
                </a:cubicBezTo>
                <a:cubicBezTo>
                  <a:pt x="23775" y="6744"/>
                  <a:pt x="23767" y="6764"/>
                  <a:pt x="23767" y="6739"/>
                </a:cubicBezTo>
              </a:path>
              <a:path w="4873" h="1145">
                <a:moveTo>
                  <a:pt x="23783" y="5917"/>
                </a:moveTo>
                <a:cubicBezTo>
                  <a:pt x="23787" y="5928"/>
                  <a:pt x="23789" y="5957"/>
                  <a:pt x="23799" y="5975"/>
                </a:cubicBezTo>
                <a:cubicBezTo>
                  <a:pt x="23829" y="6029"/>
                  <a:pt x="23844" y="6081"/>
                  <a:pt x="23867" y="6139"/>
                </a:cubicBezTo>
                <a:cubicBezTo>
                  <a:pt x="23902" y="6226"/>
                  <a:pt x="23918" y="6317"/>
                  <a:pt x="23946" y="6407"/>
                </a:cubicBezTo>
                <a:cubicBezTo>
                  <a:pt x="23976" y="6504"/>
                  <a:pt x="24011" y="6600"/>
                  <a:pt x="24041" y="6697"/>
                </a:cubicBezTo>
                <a:cubicBezTo>
                  <a:pt x="24059" y="6755"/>
                  <a:pt x="24084" y="6801"/>
                  <a:pt x="24120" y="6850"/>
                </a:cubicBezTo>
                <a:cubicBezTo>
                  <a:pt x="24124" y="6864"/>
                  <a:pt x="24124" y="6869"/>
                  <a:pt x="24136" y="6866"/>
                </a:cubicBezTo>
                <a:cubicBezTo>
                  <a:pt x="24156" y="6844"/>
                  <a:pt x="24163" y="6835"/>
                  <a:pt x="24178" y="6797"/>
                </a:cubicBezTo>
                <a:cubicBezTo>
                  <a:pt x="24201" y="6739"/>
                  <a:pt x="24211" y="6677"/>
                  <a:pt x="24231" y="6618"/>
                </a:cubicBezTo>
                <a:cubicBezTo>
                  <a:pt x="24244" y="6579"/>
                  <a:pt x="24249" y="6534"/>
                  <a:pt x="24262" y="6497"/>
                </a:cubicBezTo>
                <a:cubicBezTo>
                  <a:pt x="24266" y="6493"/>
                  <a:pt x="24269" y="6490"/>
                  <a:pt x="24273" y="6486"/>
                </a:cubicBezTo>
                <a:cubicBezTo>
                  <a:pt x="24276" y="6506"/>
                  <a:pt x="24279" y="6514"/>
                  <a:pt x="24284" y="6534"/>
                </a:cubicBezTo>
                <a:cubicBezTo>
                  <a:pt x="24300" y="6604"/>
                  <a:pt x="24321" y="6682"/>
                  <a:pt x="24368" y="6739"/>
                </a:cubicBezTo>
                <a:cubicBezTo>
                  <a:pt x="24409" y="6789"/>
                  <a:pt x="24483" y="6847"/>
                  <a:pt x="24547" y="6861"/>
                </a:cubicBezTo>
                <a:cubicBezTo>
                  <a:pt x="24613" y="6876"/>
                  <a:pt x="24718" y="6861"/>
                  <a:pt x="24779" y="6834"/>
                </a:cubicBezTo>
                <a:cubicBezTo>
                  <a:pt x="24841" y="6806"/>
                  <a:pt x="24890" y="6770"/>
                  <a:pt x="24943" y="6729"/>
                </a:cubicBez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02:55:53Z</dcterms:created>
  <dc:creator>Jim Weller</dc:creator>
  <dc:description/>
  <dc:language>en-US</dc:language>
  <cp:lastModifiedBy>Jim Weller</cp:lastModifiedBy>
  <dcterms:modified xsi:type="dcterms:W3CDTF">2006-02-15T06:32:54Z</dcterms:modified>
  <cp:revision>28</cp:revision>
  <dc:subject/>
  <dc:title>Moose Habitat Surveyor (MHS) Requirements and Design Analysis http://mhs.jimweller.net/ </dc:title>
</cp:coreProperties>
</file>